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9882188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823896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0640" y="2331720"/>
            <a:ext cx="8239320" cy="1698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0640" y="4192200"/>
            <a:ext cx="8239320" cy="1698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823896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0640" y="2331720"/>
            <a:ext cx="4020480" cy="1698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360" y="2331720"/>
            <a:ext cx="4020480" cy="1698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0640" y="4192200"/>
            <a:ext cx="4020480" cy="1698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02360" y="4192200"/>
            <a:ext cx="4020480" cy="1698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823896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0640" y="2331720"/>
            <a:ext cx="2652840" cy="1698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66680" y="2331720"/>
            <a:ext cx="2652840" cy="1698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2360" y="2331720"/>
            <a:ext cx="2652840" cy="1698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0640" y="4192200"/>
            <a:ext cx="2652840" cy="1698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66680" y="4192200"/>
            <a:ext cx="2652840" cy="1698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2360" y="4192200"/>
            <a:ext cx="2652840" cy="1698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823896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0640" y="2331720"/>
            <a:ext cx="8239320" cy="35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823896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0640" y="2331720"/>
            <a:ext cx="823932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823896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0640" y="2331720"/>
            <a:ext cx="402048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02360" y="2331720"/>
            <a:ext cx="402048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823896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152280"/>
            <a:ext cx="823896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823896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0640" y="2331720"/>
            <a:ext cx="4020480" cy="1698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360" y="2331720"/>
            <a:ext cx="402048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0640" y="4192200"/>
            <a:ext cx="4020480" cy="1698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823896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0640" y="2331720"/>
            <a:ext cx="402048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360" y="2331720"/>
            <a:ext cx="4020480" cy="1698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02360" y="4192200"/>
            <a:ext cx="4020480" cy="1698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823896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0640" y="2331720"/>
            <a:ext cx="4020480" cy="1698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2360" y="2331720"/>
            <a:ext cx="4020480" cy="1698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0640" y="4192200"/>
            <a:ext cx="8239320" cy="1698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80640" y="2331720"/>
            <a:ext cx="823932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72800">
              <a:lnSpc>
                <a:spcPts val="2500"/>
              </a:lnSpc>
              <a:buClr>
                <a:srgbClr val="000000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5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5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5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5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5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19320" y="152280"/>
            <a:ext cx="823896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43800" y="6400800"/>
            <a:ext cx="2133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Georg Leh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LION WP4&amp;WP5 Apr. 2000 </a:t>
            </a:r>
            <a:fld id="{0B87A1BF-CB31-4422-A6D5-4710DE005DF7}" type="slidenum">
              <a:rPr b="1" lang="en-US" sz="1200" spc="-1" strike="noStrike">
                <a:solidFill>
                  <a:srgbClr val="67676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6320" y="6296040"/>
            <a:ext cx="2743200" cy="48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"/>
          <p:cNvGraphicFramePr/>
          <p:nvPr/>
        </p:nvGraphicFramePr>
        <p:xfrm>
          <a:off x="8534520" y="152280"/>
          <a:ext cx="1143000" cy="8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34520" y="152280"/>
                    <a:ext cx="11430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8238960" cy="2362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69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Arial"/>
              </a:rPr>
              <a:t>Welcome to the </a:t>
            </a:r>
            <a:br>
              <a:rPr sz="5400"/>
            </a:br>
            <a:r>
              <a:rPr b="0" lang="de-DE" sz="5400" spc="-1" strike="noStrike">
                <a:solidFill>
                  <a:srgbClr val="000000"/>
                </a:solidFill>
                <a:latin typeface="Arial"/>
              </a:rPr>
              <a:t>First LION WP4 and WP5 Mee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823896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Since the last meeting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1320" y="1225440"/>
            <a:ext cx="715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me contribu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annis: Structure of WP4 (IP-Metho.do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lrike: TMF-Methodology (WP5_01a.do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tonio: Functional modeling (funct_mod.do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rescenzo: contribution to WBEM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urther contribu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yoto SG13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G 15 Meeting in Geneva going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ver is now running -&gt; documents on ser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/administrative issues encountered sinc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start of the proj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23932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Objectives of the meeting: WP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20" y="990720"/>
            <a:ext cx="972036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olidation of responsibilities per p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signment of persons involved in WP4 per p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Task 1) Identification of the NNI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Task 1) Identification of the CNI inter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Task 1) Categorisation of interfaces depending on their statu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) existing and adequ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) existing requiring enhancem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non-exis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Task 1 &amp; 2) Consideration of emerging standa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Task 2) Contributions on the Digital Wrapper functional spec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Task 3) IP functional specification method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23932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Objectives of the meeting: WP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0" y="1447920"/>
            <a:ext cx="991440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cuss method for specification of the management requirement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described in wp5_01a.doc  (TMF method" ) and to come to a dec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ign a table of contents for the specification of th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managemen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Identify in a ”brainstorming” management functiona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 umbrella managem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Identify in a ”brainstorming” Network Level managemen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823896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Objectives of the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8880" y="1447920"/>
            <a:ext cx="929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oth WP‘s: discussion on the formalism of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 we want to model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&gt; Brainstorming proposed for WP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collect existing requirements/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identify „ad hoc“ new requirements coming from inter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sonable also for WP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823896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dministrative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9160" y="1792440"/>
            <a:ext cx="9552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ver: Who puts documents where, when, and under which na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hor using ftp or browser,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ming: document type, number, partner code, WP, versio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&gt; document by e-mail from Ya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cument names and 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ocation of persons only on the level of WPG‘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.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823896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Schedul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1800" y="1563840"/>
            <a:ext cx="423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Time frame avail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ssible i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Presentation of con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Reports on Standard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Administrative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823896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990720"/>
          <a:ext cx="9525240" cy="538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952524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23932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oposal for document hand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720" y="1104840"/>
            <a:ext cx="795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dadada"/>
                </a:solidFill>
                <a:latin typeface="Arial"/>
              </a:rPr>
              <a:t>Document template, (see, for instance, WP5_01a.do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adada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dadada"/>
                </a:solidFill>
                <a:latin typeface="Arial"/>
              </a:rPr>
              <a:t>Naming convention for file nam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dadada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dadada"/>
                </a:solidFill>
                <a:latin typeface="Arial"/>
              </a:rPr>
              <a:t>Format:  WPN_nmB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buClr>
                <a:srgbClr val="dadada"/>
              </a:buClr>
              <a:buFont typeface="Arial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dadada"/>
                </a:solidFill>
                <a:latin typeface="Arial"/>
              </a:rPr>
              <a:t>N =1,2,3,...       = LION WP-N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buClr>
                <a:srgbClr val="dadada"/>
              </a:buClr>
              <a:buFont typeface="Arial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dadada"/>
                </a:solidFill>
                <a:latin typeface="Arial"/>
              </a:rPr>
              <a:t>n,m=0,1,2,3,...  = document number per W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buClr>
                <a:srgbClr val="dadada"/>
              </a:buClr>
              <a:buFont typeface="Arial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dadada"/>
                </a:solidFill>
                <a:latin typeface="Arial"/>
              </a:rPr>
              <a:t>B= a, b, c, d ...  = letter for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buClr>
                <a:srgbClr val="dadada"/>
              </a:buClr>
              <a:buFont typeface="Arial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dadada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dadada"/>
                </a:solidFill>
                <a:latin typeface="Arial"/>
              </a:rPr>
              <a:t>Example: WP5_01a.do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cument list on server; for instance WP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doclist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2T11:28:04Z</dcterms:created>
  <dc:creator>Gerhard Gillmann, MSd</dc:creator>
  <dc:description>Stand 5.8.97</dc:description>
  <dc:language>en-US</dc:language>
  <cp:lastModifiedBy>Wizard BR Installation</cp:lastModifiedBy>
  <cp:lastPrinted>2000-02-04T15:31:30Z</cp:lastPrinted>
  <dcterms:modified xsi:type="dcterms:W3CDTF">2000-04-11T12:23:12Z</dcterms:modified>
  <cp:revision>339</cp:revision>
  <dc:subject>CI-Anwendungshilfe</dc:subject>
  <dc:title>CI-gerechte Overheadfolien, Schwarz-Weiß </dc:title>
</cp:coreProperties>
</file>