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896760" y="4702320"/>
            <a:ext cx="4940640" cy="438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00000" y="73476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ゴシック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ＭＳ 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896760" y="4702320"/>
            <a:ext cx="4940640" cy="438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ＭＳ ゴシック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</a:rPr>
              <a:t>In the background where IP-VPN is required, three types of thechnology have been developping.</a:t>
            </a:r>
            <a:endParaRPr b="0" lang="en-US" sz="1200" spc="-1" strike="noStrike">
              <a:solidFill>
                <a:srgbClr val="000000"/>
              </a:solidFill>
              <a:latin typeface="ＭＳ ゴシック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</a:rPr>
              <a:t>In these technologies, label VPN is expected to be applied for constructing extranets.</a:t>
            </a:r>
            <a:endParaRPr b="0" lang="en-US" sz="1200" spc="-1" strike="noStrike">
              <a:solidFill>
                <a:srgbClr val="000000"/>
              </a:solidFill>
              <a:latin typeface="ＭＳ ゴシック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</a:rPr>
              <a:t>GMN-CL is one of leading implementations of label VPN, and has several enhanced functionalities.  Fro example,</a:t>
            </a:r>
            <a:endParaRPr b="0" lang="en-US" sz="1200" spc="-1" strike="noStrike">
              <a:solidFill>
                <a:srgbClr val="000000"/>
              </a:solidFill>
              <a:latin typeface="ＭＳ ゴシック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</a:rPr>
              <a:t>Elaborate inter VPN access control by CUG-GW, </a:t>
            </a:r>
            <a:endParaRPr b="0" lang="en-US" sz="1200" spc="-1" strike="noStrike">
              <a:solidFill>
                <a:srgbClr val="000000"/>
              </a:solidFill>
              <a:latin typeface="ＭＳ ゴシック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</a:rPr>
              <a:t>Efficient use of network resources by connectionless transport of </a:t>
            </a:r>
            <a:endParaRPr b="0" lang="en-US" sz="1200" spc="-1" strike="noStrike">
              <a:solidFill>
                <a:srgbClr val="000000"/>
              </a:solidFill>
              <a:latin typeface="ＭＳ ゴシック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</a:rPr>
              <a:t>Core layer.</a:t>
            </a:r>
            <a:endParaRPr b="0" lang="en-US" sz="1200" spc="-1" strike="noStrike">
              <a:solidFill>
                <a:srgbClr val="000000"/>
              </a:solidFill>
              <a:latin typeface="ＭＳ 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D32E-31FD-491D-9E60-94750B335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4319-00F9-46C3-8686-5A4B4F1BF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6815-2584-4E5B-A85B-46923EA31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7930-3DCB-422A-BC9C-B6C56AF491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928F-4A7C-48B8-8899-31DF091D9F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2026-D867-48C5-99D5-5DBF071E9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B329-EAFC-4F1B-BCA5-247AE644B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CA2B-9455-4E74-AC9D-5F0EB2B01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C44D-5E67-49C7-BC61-B700B7CA6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C0D3-05E3-4550-8D58-1D44EA8B3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5130-CBDA-4B6A-B602-D49E710DE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ＭＳ 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BE92-41A7-4E21-8E8B-DEC957B53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02000" y="824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763C-8138-43CB-9129-49D173711BA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183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8008920" y="6332400"/>
          <a:ext cx="1135080" cy="52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8920" y="6332400"/>
                    <a:ext cx="11350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-122760" y="6556320"/>
            <a:ext cx="2567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183400"/>
                </a:solidFill>
                <a:latin typeface="ＭＳ Ｐゴシック"/>
              </a:rPr>
              <a:t>NTT Confidential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63360" y="50760"/>
          <a:ext cx="1143000" cy="801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360" y="50760"/>
                    <a:ext cx="11430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3.wmf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3.wmf"/><Relationship Id="rId27" Type="http://schemas.openxmlformats.org/officeDocument/2006/relationships/image" Target="../media/image4.wmf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0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11.wmf"/><Relationship Id="rId21" Type="http://schemas.openxmlformats.org/officeDocument/2006/relationships/image" Target="../media/image6.wmf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8.wmf"/><Relationship Id="rId25" Type="http://schemas.openxmlformats.org/officeDocument/2006/relationships/image" Target="../media/image6.wmf"/><Relationship Id="rId26" Type="http://schemas.openxmlformats.org/officeDocument/2006/relationships/image" Target="../media/image7.wmf"/><Relationship Id="rId27" Type="http://schemas.openxmlformats.org/officeDocument/2006/relationships/oleObject" Target="../embeddings/oleObject9.bin"/><Relationship Id="rId28" Type="http://schemas.openxmlformats.org/officeDocument/2006/relationships/image" Target="../media/image8.wmf"/><Relationship Id="rId2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08240" y="1523880"/>
            <a:ext cx="727704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T’s Label Switching VPN “Label VPN”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7200" y="3124080"/>
            <a:ext cx="30391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183400"/>
                </a:solidFill>
                <a:latin typeface="Times New Roman"/>
              </a:rPr>
              <a:t>April 13, 2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183400"/>
                </a:solidFill>
                <a:latin typeface="Times New Roman"/>
              </a:rPr>
              <a:t>LION-WP1 mee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138560" y="4343400"/>
          <a:ext cx="161604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8560" y="4343400"/>
                    <a:ext cx="161604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670800" y="152280"/>
            <a:ext cx="231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183400"/>
                </a:solidFill>
                <a:latin typeface="Times New Roman"/>
              </a:rPr>
              <a:t>NTT Confidential Propri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870360" y="2379600"/>
            <a:ext cx="1195200" cy="160020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6720" y="17604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5560" y="29034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600" y="404640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770600" y="160812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ustomer 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21440" y="1328760"/>
            <a:ext cx="154620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778160" y="28098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 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121440" y="2548080"/>
            <a:ext cx="154620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85000" y="40226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 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121440" y="3767040"/>
            <a:ext cx="154620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6248520" y="2624040"/>
          <a:ext cx="404640" cy="3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624040"/>
                    <a:ext cx="40464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6248520" y="3836880"/>
          <a:ext cx="404640" cy="3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836880"/>
                    <a:ext cx="40464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6505560" y="2852640"/>
          <a:ext cx="405000" cy="31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05560" y="2852640"/>
                    <a:ext cx="40500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6505560" y="4065480"/>
          <a:ext cx="405000" cy="3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05560" y="4065480"/>
                    <a:ext cx="40500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6784920" y="1862280"/>
          <a:ext cx="405000" cy="31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4920" y="1862280"/>
                    <a:ext cx="4050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6786720" y="3081240"/>
          <a:ext cx="404640" cy="31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86720" y="3081240"/>
                    <a:ext cx="40464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6786720" y="4294080"/>
          <a:ext cx="404640" cy="311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6720" y="4294080"/>
                    <a:ext cx="40464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1231920" y="1481040"/>
            <a:ext cx="1654200" cy="838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31920" y="2624040"/>
            <a:ext cx="1654200" cy="838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5"/>
          <a:stretch/>
        </p:blipFill>
        <p:spPr>
          <a:xfrm>
            <a:off x="1971720" y="2700360"/>
            <a:ext cx="280800" cy="2286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231920" y="3767040"/>
            <a:ext cx="1654200" cy="839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6"/>
          <a:stretch/>
        </p:blipFill>
        <p:spPr>
          <a:xfrm>
            <a:off x="2252520" y="1785960"/>
            <a:ext cx="281160" cy="2286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17"/>
          <a:stretch/>
        </p:blipFill>
        <p:spPr>
          <a:xfrm>
            <a:off x="2252520" y="2928960"/>
            <a:ext cx="281160" cy="2286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18"/>
          <a:stretch/>
        </p:blipFill>
        <p:spPr>
          <a:xfrm>
            <a:off x="2252520" y="4071960"/>
            <a:ext cx="281160" cy="2286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19"/>
          <a:stretch/>
        </p:blipFill>
        <p:spPr>
          <a:xfrm>
            <a:off x="2533680" y="2014560"/>
            <a:ext cx="280800" cy="2286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0"/>
          <a:stretch/>
        </p:blipFill>
        <p:spPr>
          <a:xfrm>
            <a:off x="2533680" y="3157560"/>
            <a:ext cx="280800" cy="2286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1"/>
          <a:stretch/>
        </p:blipFill>
        <p:spPr>
          <a:xfrm>
            <a:off x="2533680" y="4300560"/>
            <a:ext cx="280800" cy="2286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207440" y="151776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07440" y="17622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13920" y="19908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07440" y="26766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07800" y="292104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07080" y="313992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07440" y="380988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07440" y="406404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14280" y="43178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137000" y="13809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137000" y="1625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44920" y="18669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137000" y="261612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137000" y="28605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144920" y="311472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137000" y="38196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37000" y="406404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144920" y="431784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83400" y="118908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PN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183400" y="235728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PN-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183040" y="3475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PN-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201360" y="103680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PN-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204240" y="225576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PN-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210360" y="3475080"/>
            <a:ext cx="7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PN-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886120" y="1916280"/>
            <a:ext cx="1054080" cy="844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86120" y="3043080"/>
            <a:ext cx="984240" cy="98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5065200" y="3046320"/>
            <a:ext cx="1055880" cy="9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4995360" y="3598560"/>
            <a:ext cx="1125720" cy="625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47920" y="1054080"/>
            <a:ext cx="1154160" cy="457200"/>
          </a:xfrm>
          <a:prstGeom prst="wedgeRoundRectCallout">
            <a:avLst>
              <a:gd name="adj1" fmla="val -81472"/>
              <a:gd name="adj2" fmla="val 7881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36760" y="1063800"/>
            <a:ext cx="1341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PN by each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13400" y="1068480"/>
            <a:ext cx="1155600" cy="457200"/>
          </a:xfrm>
          <a:prstGeom prst="wedgeRoundRectCallout">
            <a:avLst>
              <a:gd name="adj1" fmla="val 77629"/>
              <a:gd name="adj2" fmla="val 59027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15560" y="1035000"/>
            <a:ext cx="1357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PN by e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2400" y="5473800"/>
            <a:ext cx="59659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61960" y="5219640"/>
            <a:ext cx="601668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071000" y="462276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ssibility from customer 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5680" y="60436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cessibility from customer 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2400" y="6313320"/>
            <a:ext cx="24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cessibility from customer 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4640" y="4959360"/>
            <a:ext cx="6032520" cy="114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72120" y="49658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724040" y="5194440"/>
            <a:ext cx="471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31920" y="5880240"/>
            <a:ext cx="520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649520" y="518004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45680" y="519912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99720" y="51894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58480" y="5842080"/>
            <a:ext cx="63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843200" y="58561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430720" y="58561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89440" y="58561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58480" y="5616720"/>
            <a:ext cx="63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30720" y="56404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989440" y="5640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935000" y="491652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Company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371400" y="51894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952800" y="518940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66240" y="518940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54640" y="58561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59440" y="58561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1400" y="58561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59440" y="5640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721400" y="5640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93960" y="491652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Company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975120" y="4178160"/>
            <a:ext cx="774720" cy="685800"/>
          </a:xfrm>
          <a:prstGeom prst="upArrow">
            <a:avLst>
              <a:gd name="adj1" fmla="val 50000"/>
              <a:gd name="adj2" fmla="val 47398"/>
            </a:avLst>
          </a:prstGeom>
          <a:solidFill>
            <a:srgbClr val="cc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970680" y="5359320"/>
            <a:ext cx="1892160" cy="797040"/>
          </a:xfrm>
          <a:prstGeom prst="foldedCorner">
            <a:avLst>
              <a:gd name="adj" fmla="val 12500"/>
            </a:avLst>
          </a:prstGeom>
          <a:solidFill>
            <a:srgbClr val="00ae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rix table of acces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717560" y="338760"/>
            <a:ext cx="64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UG-GW (Closed user group - Gate W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843200" y="56577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71920" y="56577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58960" y="1270080"/>
            <a:ext cx="5095800" cy="2878200"/>
          </a:xfrm>
          <a:custGeom>
            <a:avLst/>
            <a:gdLst/>
            <a:ahLst/>
            <a:rect l="l" t="t" r="r" b="b"/>
            <a:pathLst>
              <a:path w="3478" h="1813">
                <a:moveTo>
                  <a:pt x="55" y="193"/>
                </a:moveTo>
                <a:cubicBezTo>
                  <a:pt x="133" y="186"/>
                  <a:pt x="316" y="115"/>
                  <a:pt x="524" y="148"/>
                </a:cubicBezTo>
                <a:cubicBezTo>
                  <a:pt x="732" y="181"/>
                  <a:pt x="1075" y="265"/>
                  <a:pt x="1306" y="394"/>
                </a:cubicBezTo>
                <a:cubicBezTo>
                  <a:pt x="1537" y="523"/>
                  <a:pt x="1734" y="886"/>
                  <a:pt x="1909" y="919"/>
                </a:cubicBezTo>
                <a:cubicBezTo>
                  <a:pt x="2084" y="952"/>
                  <a:pt x="2190" y="718"/>
                  <a:pt x="2355" y="595"/>
                </a:cubicBezTo>
                <a:cubicBezTo>
                  <a:pt x="2520" y="472"/>
                  <a:pt x="2751" y="279"/>
                  <a:pt x="2902" y="182"/>
                </a:cubicBezTo>
                <a:cubicBezTo>
                  <a:pt x="3053" y="85"/>
                  <a:pt x="3175" y="30"/>
                  <a:pt x="3259" y="15"/>
                </a:cubicBezTo>
                <a:cubicBezTo>
                  <a:pt x="3343" y="0"/>
                  <a:pt x="3381" y="59"/>
                  <a:pt x="3405" y="92"/>
                </a:cubicBezTo>
                <a:cubicBezTo>
                  <a:pt x="3429" y="125"/>
                  <a:pt x="3478" y="155"/>
                  <a:pt x="3405" y="215"/>
                </a:cubicBezTo>
                <a:cubicBezTo>
                  <a:pt x="3327" y="337"/>
                  <a:pt x="3161" y="327"/>
                  <a:pt x="2969" y="450"/>
                </a:cubicBezTo>
                <a:cubicBezTo>
                  <a:pt x="2777" y="573"/>
                  <a:pt x="2402" y="833"/>
                  <a:pt x="2255" y="952"/>
                </a:cubicBezTo>
                <a:cubicBezTo>
                  <a:pt x="2108" y="1071"/>
                  <a:pt x="2137" y="1119"/>
                  <a:pt x="2087" y="1164"/>
                </a:cubicBezTo>
                <a:cubicBezTo>
                  <a:pt x="2037" y="1209"/>
                  <a:pt x="2029" y="1161"/>
                  <a:pt x="1953" y="1220"/>
                </a:cubicBezTo>
                <a:cubicBezTo>
                  <a:pt x="1877" y="1279"/>
                  <a:pt x="1820" y="1436"/>
                  <a:pt x="1629" y="1521"/>
                </a:cubicBezTo>
                <a:cubicBezTo>
                  <a:pt x="1438" y="1606"/>
                  <a:pt x="1042" y="1688"/>
                  <a:pt x="804" y="1733"/>
                </a:cubicBezTo>
                <a:cubicBezTo>
                  <a:pt x="566" y="1778"/>
                  <a:pt x="314" y="1813"/>
                  <a:pt x="201" y="1789"/>
                </a:cubicBezTo>
                <a:cubicBezTo>
                  <a:pt x="88" y="1765"/>
                  <a:pt x="0" y="1636"/>
                  <a:pt x="123" y="1588"/>
                </a:cubicBezTo>
                <a:cubicBezTo>
                  <a:pt x="246" y="1540"/>
                  <a:pt x="703" y="1544"/>
                  <a:pt x="937" y="1499"/>
                </a:cubicBezTo>
                <a:cubicBezTo>
                  <a:pt x="1171" y="1454"/>
                  <a:pt x="1423" y="1409"/>
                  <a:pt x="1529" y="1320"/>
                </a:cubicBezTo>
                <a:cubicBezTo>
                  <a:pt x="1635" y="1231"/>
                  <a:pt x="1609" y="1074"/>
                  <a:pt x="1574" y="963"/>
                </a:cubicBezTo>
                <a:cubicBezTo>
                  <a:pt x="1539" y="852"/>
                  <a:pt x="1468" y="757"/>
                  <a:pt x="1317" y="651"/>
                </a:cubicBezTo>
                <a:cubicBezTo>
                  <a:pt x="1166" y="545"/>
                  <a:pt x="868" y="379"/>
                  <a:pt x="669" y="327"/>
                </a:cubicBezTo>
                <a:cubicBezTo>
                  <a:pt x="470" y="275"/>
                  <a:pt x="225" y="362"/>
                  <a:pt x="123" y="338"/>
                </a:cubicBezTo>
                <a:cubicBezTo>
                  <a:pt x="21" y="314"/>
                  <a:pt x="69" y="214"/>
                  <a:pt x="55" y="182"/>
                </a:cubicBezTo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17880" y="2862360"/>
            <a:ext cx="13114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ab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 VPN Access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2"/>
          <a:stretch/>
        </p:blipFill>
        <p:spPr>
          <a:xfrm>
            <a:off x="1971720" y="1557360"/>
            <a:ext cx="28080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"/>
          <p:cNvGraphicFramePr/>
          <p:nvPr/>
        </p:nvGraphicFramePr>
        <p:xfrm>
          <a:off x="6246720" y="1405080"/>
          <a:ext cx="405000" cy="311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246720" y="1405080"/>
                    <a:ext cx="4050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6504120" y="1633680"/>
          <a:ext cx="404640" cy="311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504120" y="1633680"/>
                    <a:ext cx="40464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 flipH="1">
            <a:off x="4995360" y="1811160"/>
            <a:ext cx="1125720" cy="93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886120" y="3674880"/>
            <a:ext cx="1054080" cy="495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27"/>
          <a:stretch/>
        </p:blipFill>
        <p:spPr>
          <a:xfrm>
            <a:off x="1971720" y="3843360"/>
            <a:ext cx="280800" cy="2286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1231920" y="5402160"/>
            <a:ext cx="3940200" cy="24624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158840" y="538632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st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42480" y="538632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430000" y="54118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988720" y="54118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58720" y="5400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46000" y="537840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720680" y="54118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724040" y="4965840"/>
            <a:ext cx="324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13160" y="49658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4640" y="5402160"/>
            <a:ext cx="6032520" cy="2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5651640"/>
            <a:ext cx="520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220760" y="542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60560" y="51944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7440" y="51944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06920" y="51944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94200" y="51944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004760" y="20160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0080" y="555480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33160" y="198288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UG-G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328920" y="2604960"/>
            <a:ext cx="5000760" cy="3997440"/>
          </a:xfrm>
          <a:prstGeom prst="roundRect">
            <a:avLst>
              <a:gd name="adj" fmla="val 12486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449520" y="5310360"/>
            <a:ext cx="4727520" cy="1143000"/>
          </a:xfrm>
          <a:prstGeom prst="roundRect">
            <a:avLst>
              <a:gd name="adj" fmla="val 26630"/>
            </a:avLst>
          </a:prstGeom>
          <a:solidFill>
            <a:srgbClr val="f1d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449520" y="3349800"/>
            <a:ext cx="4762440" cy="1828800"/>
          </a:xfrm>
          <a:prstGeom prst="roundRect">
            <a:avLst>
              <a:gd name="adj" fmla="val 12486"/>
            </a:avLst>
          </a:prstGeom>
          <a:solidFill>
            <a:srgbClr val="f1d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24200" y="187200"/>
            <a:ext cx="604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183400"/>
                </a:solidFill>
                <a:latin typeface="Times New Roman"/>
                <a:ea typeface="ＭＳ ゴシック"/>
              </a:rPr>
              <a:t>Advanced IP Connection  - Qo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4200" y="990720"/>
            <a:ext cx="6297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ifferent QoS Classes are Available for Each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033640" y="1370160"/>
            <a:ext cx="5433840" cy="105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67120" y="3451320"/>
            <a:ext cx="689040" cy="2882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991640" y="3486240"/>
            <a:ext cx="693720" cy="28479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073400" y="4295880"/>
            <a:ext cx="3511800" cy="73476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091040" y="3824280"/>
            <a:ext cx="3494160" cy="57636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rot="10800000">
            <a:off x="6258600" y="4699080"/>
            <a:ext cx="1793880" cy="668160"/>
          </a:xfrm>
          <a:custGeom>
            <a:avLst/>
            <a:gdLst>
              <a:gd name="textAreaLeft" fmla="*/ 66240 w 1793880"/>
              <a:gd name="textAreaRight" fmla="*/ 1727640 w 1793880"/>
              <a:gd name="textAreaTop" fmla="*/ 24480 h 668160"/>
              <a:gd name="textAreaBottom" fmla="*/ 533880 h 668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367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ow 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56040" y="5788080"/>
            <a:ext cx="3646440" cy="5634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97560" y="3603600"/>
            <a:ext cx="1542960" cy="608040"/>
          </a:xfrm>
          <a:custGeom>
            <a:avLst/>
            <a:gdLst>
              <a:gd name="textAreaLeft" fmla="*/ 56880 w 1542960"/>
              <a:gd name="textAreaRight" fmla="*/ 1486080 w 1542960"/>
              <a:gd name="textAreaTop" fmla="*/ 22320 h 608040"/>
              <a:gd name="textAreaBottom" fmla="*/ 485640 h 6080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45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High 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rot="10800000">
            <a:off x="6254640" y="5976720"/>
            <a:ext cx="2346480" cy="625320"/>
          </a:xfrm>
          <a:custGeom>
            <a:avLst/>
            <a:gdLst>
              <a:gd name="textAreaLeft" fmla="*/ 86760 w 2346480"/>
              <a:gd name="textAreaRight" fmla="*/ 2259720 w 2346480"/>
              <a:gd name="textAreaTop" fmla="*/ 23040 h 625320"/>
              <a:gd name="textAreaBottom" fmla="*/ 499320 h 6253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45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 rot="10800000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hroughput as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or any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 rot="16200000">
            <a:off x="2223720" y="1648440"/>
            <a:ext cx="743040" cy="274680"/>
          </a:xfrm>
          <a:prstGeom prst="rightArrow">
            <a:avLst>
              <a:gd name="adj1" fmla="val 50000"/>
              <a:gd name="adj2" fmla="val 135293"/>
            </a:avLst>
          </a:prstGeom>
          <a:gradFill rotWithShape="0">
            <a:gsLst>
              <a:gs pos="0">
                <a:srgbClr val="99ff99"/>
              </a:gs>
              <a:gs pos="100000">
                <a:srgbClr val="6ab1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743200" y="5994360"/>
            <a:ext cx="118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03760" y="1370160"/>
            <a:ext cx="472896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90440" indent="-1904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1) Minimum Throughput Assur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2) Throughput Preferr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3) Throughput Assur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7584840" y="4122720"/>
            <a:ext cx="1422360" cy="12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7561440" y="4684320"/>
            <a:ext cx="768240" cy="204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7546680" y="5989320"/>
            <a:ext cx="1460520" cy="4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421000" y="4663800"/>
            <a:ext cx="1623960" cy="53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62480" y="5397480"/>
            <a:ext cx="2629080" cy="291960"/>
          </a:xfrm>
          <a:prstGeom prst="roundRect">
            <a:avLst>
              <a:gd name="adj" fmla="val 12486"/>
            </a:avLst>
          </a:prstGeom>
          <a:solidFill>
            <a:srgbClr val="deffd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etwork Cut-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075200" y="5824440"/>
            <a:ext cx="268128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5760" indent="-1857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  <a:ea typeface="ＭＳ ゴシック"/>
              </a:rPr>
              <a:t>Throughput Assured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13320" y="3925800"/>
            <a:ext cx="846360" cy="285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30960" y="4519440"/>
            <a:ext cx="852480" cy="2811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30200" y="2881080"/>
            <a:ext cx="4757760" cy="6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704960" y="3603600"/>
            <a:ext cx="744480" cy="227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87720" y="3303720"/>
            <a:ext cx="54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95240" y="4933800"/>
            <a:ext cx="121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8480" y="5191200"/>
            <a:ext cx="121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98480" y="5462640"/>
            <a:ext cx="121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806480" y="4797360"/>
            <a:ext cx="480960" cy="22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805040" y="5081760"/>
            <a:ext cx="480960" cy="22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03240" y="5365800"/>
            <a:ext cx="481320" cy="2221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971720" y="4805280"/>
            <a:ext cx="304920" cy="20628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187720" y="5079960"/>
            <a:ext cx="87120" cy="21600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38280" y="4889520"/>
            <a:ext cx="371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27120" y="5130720"/>
            <a:ext cx="6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76480" y="4788000"/>
            <a:ext cx="179280" cy="1062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985680" y="5038560"/>
            <a:ext cx="179640" cy="106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95240" y="5300640"/>
            <a:ext cx="179640" cy="106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55880" y="5413320"/>
            <a:ext cx="942480" cy="52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903240" y="4361040"/>
            <a:ext cx="1500120" cy="388800"/>
          </a:xfrm>
          <a:prstGeom prst="roundRect">
            <a:avLst>
              <a:gd name="adj" fmla="val 12486"/>
            </a:avLst>
          </a:prstGeom>
          <a:solidFill>
            <a:srgbClr val="deffd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inimum throughput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rot="10800000">
            <a:off x="1055520" y="5848200"/>
            <a:ext cx="1430640" cy="795600"/>
          </a:xfrm>
          <a:custGeom>
            <a:avLst/>
            <a:gdLst>
              <a:gd name="textAreaLeft" fmla="*/ 52920 w 1430640"/>
              <a:gd name="textAreaRight" fmla="*/ 1377720 w 1430640"/>
              <a:gd name="textAreaTop" fmla="*/ 29160 h 795600"/>
              <a:gd name="textAreaBottom" fmla="*/ 635400 h 7956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705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a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on-priorit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for Each P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10240" y="1981080"/>
            <a:ext cx="1248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High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231680" y="2709720"/>
            <a:ext cx="1484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02080" y="3559320"/>
            <a:ext cx="1030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205240" y="2706840"/>
            <a:ext cx="1641600" cy="558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anageme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961400" y="3468600"/>
            <a:ext cx="734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21040" y="5183280"/>
            <a:ext cx="734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54720" y="3354480"/>
            <a:ext cx="1841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orwarding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019400" y="3846600"/>
            <a:ext cx="1486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  <a:ea typeface="ＭＳ ゴシック"/>
              </a:rPr>
              <a:t>Throughp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  <a:ea typeface="ＭＳ ゴシック"/>
              </a:rPr>
              <a:t>Preferred 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89240" y="4438800"/>
            <a:ext cx="142884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  <a:ea typeface="ＭＳ ゴシック"/>
              </a:rPr>
              <a:t>Minimum Throughput Assured 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56160" y="5310360"/>
            <a:ext cx="146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TM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38000" y="5587920"/>
            <a:ext cx="86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ver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819600" y="4392720"/>
            <a:ext cx="35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  <a:ea typeface="ＭＳ ゴシック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08800" y="3859200"/>
            <a:ext cx="35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  <a:ea typeface="ＭＳ ゴシック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856320" y="5934240"/>
            <a:ext cx="35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  <a:ea typeface="ＭＳ ゴシック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49400" y="3637080"/>
            <a:ext cx="504720" cy="58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91880" y="3611520"/>
            <a:ext cx="47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30200" y="288108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98280" y="2125800"/>
            <a:ext cx="1555920" cy="495000"/>
          </a:xfrm>
          <a:prstGeom prst="wedgeRoundRectCallout">
            <a:avLst>
              <a:gd name="adj1" fmla="val -11532"/>
              <a:gd name="adj2" fmla="val 93907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92520" y="2160720"/>
            <a:ext cx="155160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dmission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PC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203040" y="3902040"/>
            <a:ext cx="395280" cy="228600"/>
            <a:chOff x="203040" y="3902040"/>
            <a:chExt cx="395280" cy="228600"/>
          </a:xfrm>
        </p:grpSpPr>
        <p:sp>
          <p:nvSpPr>
            <p:cNvPr id="717" name=""/>
            <p:cNvSpPr/>
            <p:nvPr/>
          </p:nvSpPr>
          <p:spPr>
            <a:xfrm>
              <a:off x="203040" y="3904200"/>
              <a:ext cx="395280" cy="22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7320" y="3902040"/>
              <a:ext cx="71280" cy="2199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628560" y="4035600"/>
            <a:ext cx="138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05040" y="3925800"/>
            <a:ext cx="480960" cy="22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87720" y="3924360"/>
            <a:ext cx="87120" cy="21600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527120" y="3975120"/>
            <a:ext cx="6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985680" y="3882960"/>
            <a:ext cx="179640" cy="106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7440" y="4035600"/>
            <a:ext cx="1757520" cy="4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284560" y="4784040"/>
            <a:ext cx="136080" cy="804960"/>
            <a:chOff x="2284560" y="4784040"/>
            <a:chExt cx="136080" cy="804960"/>
          </a:xfrm>
        </p:grpSpPr>
        <p:sp>
          <p:nvSpPr>
            <p:cNvPr id="726" name=""/>
            <p:cNvSpPr/>
            <p:nvPr/>
          </p:nvSpPr>
          <p:spPr>
            <a:xfrm>
              <a:off x="2284560" y="4805280"/>
              <a:ext cx="136080" cy="78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2284560" y="4783680"/>
              <a:ext cx="136080" cy="78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2397240" y="5203800"/>
            <a:ext cx="6858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ound-rob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17600" y="4889520"/>
            <a:ext cx="868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Grou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30360" y="3193920"/>
            <a:ext cx="1589040" cy="339840"/>
          </a:xfrm>
          <a:prstGeom prst="wedgeRoundRectCallout">
            <a:avLst>
              <a:gd name="adj1" fmla="val -33120"/>
              <a:gd name="adj2" fmla="val 139717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4640" y="3227400"/>
            <a:ext cx="148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riority Cells (a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8329320" y="4699080"/>
            <a:ext cx="677880" cy="190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8329320" y="4894200"/>
            <a:ext cx="677880" cy="185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8329320" y="4894200"/>
            <a:ext cx="67788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2489040"/>
            <a:ext cx="2119320" cy="217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2386080" y="2743200"/>
            <a:ext cx="4203360" cy="1684440"/>
            <a:chOff x="2386080" y="2743200"/>
            <a:chExt cx="4203360" cy="1684440"/>
          </a:xfrm>
        </p:grpSpPr>
        <p:sp>
          <p:nvSpPr>
            <p:cNvPr id="737" name=""/>
            <p:cNvSpPr/>
            <p:nvPr/>
          </p:nvSpPr>
          <p:spPr>
            <a:xfrm>
              <a:off x="2386080" y="3168720"/>
              <a:ext cx="1922040" cy="766800"/>
            </a:xfrm>
            <a:prstGeom prst="ellipse">
              <a:avLst/>
            </a:prstGeom>
            <a:solidFill>
              <a:srgbClr val="99ff99"/>
            </a:solidFill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939760" y="2743200"/>
              <a:ext cx="1922040" cy="773280"/>
            </a:xfrm>
            <a:prstGeom prst="ellipse">
              <a:avLst/>
            </a:prstGeom>
            <a:solidFill>
              <a:srgbClr val="99ff99"/>
            </a:solidFill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29040" y="3564000"/>
              <a:ext cx="1923840" cy="774720"/>
            </a:xfrm>
            <a:prstGeom prst="ellipse">
              <a:avLst/>
            </a:prstGeom>
            <a:solidFill>
              <a:srgbClr val="99ff99"/>
            </a:solidFill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220280" y="2744640"/>
              <a:ext cx="1917720" cy="771840"/>
            </a:xfrm>
            <a:prstGeom prst="ellipse">
              <a:avLst/>
            </a:prstGeom>
            <a:solidFill>
              <a:srgbClr val="99ff99"/>
            </a:solidFill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87000" y="3192480"/>
              <a:ext cx="1702440" cy="766800"/>
            </a:xfrm>
            <a:prstGeom prst="ellipse">
              <a:avLst/>
            </a:prstGeom>
            <a:solidFill>
              <a:srgbClr val="99ff99"/>
            </a:solidFill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65360" y="3654360"/>
              <a:ext cx="1923840" cy="773280"/>
            </a:xfrm>
            <a:prstGeom prst="ellipse">
              <a:avLst/>
            </a:prstGeom>
            <a:solidFill>
              <a:srgbClr val="99ff99"/>
            </a:solidFill>
            <a:ln w="25560">
              <a:solidFill>
                <a:srgbClr val="d931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938320" y="2994120"/>
              <a:ext cx="3318840" cy="1136520"/>
            </a:xfrm>
            <a:prstGeom prst="ellipse">
              <a:avLst/>
            </a:prstGeom>
            <a:solidFill>
              <a:srgbClr val="99ff99"/>
            </a:solidFill>
            <a:ln w="255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3958560" y="2936880"/>
            <a:ext cx="114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95ab7"/>
                </a:solidFill>
                <a:latin typeface="Times New Roman"/>
                <a:ea typeface="ＭＳ ゴシック"/>
              </a:rPr>
              <a:t>GMN-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177840" y="5329080"/>
          <a:ext cx="1282680" cy="9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5329080"/>
                    <a:ext cx="12826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7" name=""/>
          <p:cNvGrpSpPr/>
          <p:nvPr/>
        </p:nvGrpSpPr>
        <p:grpSpPr>
          <a:xfrm>
            <a:off x="192240" y="2690640"/>
            <a:ext cx="1763280" cy="1828800"/>
            <a:chOff x="192240" y="2690640"/>
            <a:chExt cx="1763280" cy="1828800"/>
          </a:xfrm>
        </p:grpSpPr>
        <p:grpSp>
          <p:nvGrpSpPr>
            <p:cNvPr id="748" name=""/>
            <p:cNvGrpSpPr/>
            <p:nvPr/>
          </p:nvGrpSpPr>
          <p:grpSpPr>
            <a:xfrm>
              <a:off x="192240" y="2690640"/>
              <a:ext cx="1195200" cy="1828800"/>
              <a:chOff x="192240" y="2690640"/>
              <a:chExt cx="1195200" cy="1828800"/>
            </a:xfrm>
          </p:grpSpPr>
          <p:pic>
            <p:nvPicPr>
              <p:cNvPr id="7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92240" y="2690640"/>
                <a:ext cx="11952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240" y="2982960"/>
                <a:ext cx="1042560" cy="750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751" name=""/>
            <p:cNvGraphicFramePr/>
            <p:nvPr/>
          </p:nvGraphicFramePr>
          <p:xfrm>
            <a:off x="1258560" y="2976480"/>
            <a:ext cx="696960" cy="1542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8560" y="2976480"/>
                      <a:ext cx="696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53" name=""/>
          <p:cNvGrpSpPr/>
          <p:nvPr/>
        </p:nvGrpSpPr>
        <p:grpSpPr>
          <a:xfrm>
            <a:off x="7172280" y="4476600"/>
            <a:ext cx="1233360" cy="1111320"/>
            <a:chOff x="7172280" y="4476600"/>
            <a:chExt cx="1233360" cy="1111320"/>
          </a:xfrm>
        </p:grpSpPr>
        <p:graphicFrame>
          <p:nvGraphicFramePr>
            <p:cNvPr id="754" name=""/>
            <p:cNvGraphicFramePr/>
            <p:nvPr/>
          </p:nvGraphicFramePr>
          <p:xfrm>
            <a:off x="7172280" y="4476600"/>
            <a:ext cx="1233360" cy="1111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72280" y="4476600"/>
                      <a:ext cx="1233360" cy="11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56" name=""/>
            <p:cNvGrpSpPr/>
            <p:nvPr/>
          </p:nvGrpSpPr>
          <p:grpSpPr>
            <a:xfrm>
              <a:off x="7539840" y="4597560"/>
              <a:ext cx="140040" cy="228600"/>
              <a:chOff x="7539840" y="4597560"/>
              <a:chExt cx="140040" cy="22860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7539840" y="4597560"/>
                <a:ext cx="94680" cy="228600"/>
                <a:chOff x="7539840" y="4597560"/>
                <a:chExt cx="94680" cy="228600"/>
              </a:xfrm>
            </p:grpSpPr>
            <p:pic>
              <p:nvPicPr>
                <p:cNvPr id="75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539840" y="4597560"/>
                  <a:ext cx="94680" cy="228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543800" y="4633920"/>
                  <a:ext cx="82800" cy="9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aphicFrame>
            <p:nvGraphicFramePr>
              <p:cNvPr id="760" name=""/>
              <p:cNvGraphicFramePr/>
              <p:nvPr/>
            </p:nvGraphicFramePr>
            <p:xfrm>
              <a:off x="7624440" y="4633920"/>
              <a:ext cx="55440" cy="1922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761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624440" y="4633920"/>
                        <a:ext cx="55440" cy="19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762" name=""/>
          <p:cNvGrpSpPr/>
          <p:nvPr/>
        </p:nvGrpSpPr>
        <p:grpSpPr>
          <a:xfrm>
            <a:off x="4883040" y="4998960"/>
            <a:ext cx="1265400" cy="1560600"/>
            <a:chOff x="4883040" y="4998960"/>
            <a:chExt cx="1265400" cy="1560600"/>
          </a:xfrm>
        </p:grpSpPr>
        <p:graphicFrame>
          <p:nvGraphicFramePr>
            <p:cNvPr id="763" name=""/>
            <p:cNvGraphicFramePr/>
            <p:nvPr/>
          </p:nvGraphicFramePr>
          <p:xfrm>
            <a:off x="4883040" y="4998960"/>
            <a:ext cx="1265400" cy="1560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6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883040" y="4998960"/>
                      <a:ext cx="1265400" cy="15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65" name=""/>
            <p:cNvGrpSpPr/>
            <p:nvPr/>
          </p:nvGrpSpPr>
          <p:grpSpPr>
            <a:xfrm>
              <a:off x="5297400" y="5456160"/>
              <a:ext cx="131400" cy="150840"/>
              <a:chOff x="5297400" y="5456160"/>
              <a:chExt cx="131400" cy="150840"/>
            </a:xfrm>
          </p:grpSpPr>
          <p:grpSp>
            <p:nvGrpSpPr>
              <p:cNvPr id="766" name=""/>
              <p:cNvGrpSpPr/>
              <p:nvPr/>
            </p:nvGrpSpPr>
            <p:grpSpPr>
              <a:xfrm>
                <a:off x="5297400" y="5456160"/>
                <a:ext cx="89280" cy="150840"/>
                <a:chOff x="5297400" y="5456160"/>
                <a:chExt cx="89280" cy="150840"/>
              </a:xfrm>
            </p:grpSpPr>
            <p:pic>
              <p:nvPicPr>
                <p:cNvPr id="7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297400" y="5456160"/>
                  <a:ext cx="89280" cy="150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301360" y="5479920"/>
                  <a:ext cx="77400" cy="63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aphicFrame>
            <p:nvGraphicFramePr>
              <p:cNvPr id="769" name=""/>
              <p:cNvGraphicFramePr/>
              <p:nvPr/>
            </p:nvGraphicFramePr>
            <p:xfrm>
              <a:off x="5376240" y="5479920"/>
              <a:ext cx="52560" cy="1270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770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5376240" y="5479920"/>
                        <a:ext cx="52560" cy="127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771" name=""/>
          <p:cNvGrpSpPr/>
          <p:nvPr/>
        </p:nvGrpSpPr>
        <p:grpSpPr>
          <a:xfrm>
            <a:off x="7101000" y="2036880"/>
            <a:ext cx="1600200" cy="1269720"/>
            <a:chOff x="7101000" y="2036880"/>
            <a:chExt cx="1600200" cy="1269720"/>
          </a:xfrm>
        </p:grpSpPr>
        <p:graphicFrame>
          <p:nvGraphicFramePr>
            <p:cNvPr id="772" name=""/>
            <p:cNvGraphicFramePr/>
            <p:nvPr/>
          </p:nvGraphicFramePr>
          <p:xfrm>
            <a:off x="7101000" y="2036880"/>
            <a:ext cx="1600200" cy="12697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101000" y="2036880"/>
                      <a:ext cx="1600200" cy="12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74" name=""/>
            <p:cNvGrpSpPr/>
            <p:nvPr/>
          </p:nvGrpSpPr>
          <p:grpSpPr>
            <a:xfrm>
              <a:off x="7544880" y="2257560"/>
              <a:ext cx="71280" cy="269640"/>
              <a:chOff x="7544880" y="2257560"/>
              <a:chExt cx="71280" cy="26964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7544880" y="2257560"/>
                <a:ext cx="48240" cy="269640"/>
                <a:chOff x="7544880" y="2257560"/>
                <a:chExt cx="48240" cy="269640"/>
              </a:xfrm>
            </p:grpSpPr>
            <p:pic>
              <p:nvPicPr>
                <p:cNvPr id="77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544880" y="2257560"/>
                  <a:ext cx="4824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547760" y="2300400"/>
                  <a:ext cx="42120" cy="11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aphicFrame>
            <p:nvGraphicFramePr>
              <p:cNvPr id="778" name=""/>
              <p:cNvGraphicFramePr/>
              <p:nvPr/>
            </p:nvGraphicFramePr>
            <p:xfrm>
              <a:off x="7587000" y="2300400"/>
              <a:ext cx="29160" cy="22680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779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7587000" y="2300400"/>
                        <a:ext cx="29160" cy="226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80" name=""/>
            <p:cNvGrpSpPr/>
            <p:nvPr/>
          </p:nvGrpSpPr>
          <p:grpSpPr>
            <a:xfrm>
              <a:off x="7661880" y="2214720"/>
              <a:ext cx="41040" cy="269640"/>
              <a:chOff x="7661880" y="2214720"/>
              <a:chExt cx="41040" cy="26964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7661880" y="2214720"/>
                <a:ext cx="27720" cy="269640"/>
                <a:chOff x="7661880" y="2214720"/>
                <a:chExt cx="27720" cy="269640"/>
              </a:xfrm>
            </p:grpSpPr>
            <p:pic>
              <p:nvPicPr>
                <p:cNvPr id="78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661880" y="2214720"/>
                  <a:ext cx="2772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662960" y="2257560"/>
                  <a:ext cx="24480" cy="11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aphicFrame>
            <p:nvGraphicFramePr>
              <p:cNvPr id="784" name=""/>
              <p:cNvGraphicFramePr/>
              <p:nvPr/>
            </p:nvGraphicFramePr>
            <p:xfrm>
              <a:off x="7686720" y="2257560"/>
              <a:ext cx="16200" cy="22680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785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7686720" y="2257560"/>
                        <a:ext cx="16200" cy="226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786" name=""/>
          <p:cNvSpPr/>
          <p:nvPr/>
        </p:nvSpPr>
        <p:spPr>
          <a:xfrm>
            <a:off x="-1206000" y="2927520"/>
            <a:ext cx="6393600" cy="42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63280" y="1893960"/>
            <a:ext cx="6192000" cy="150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03" y="12852"/>
                </a:moveTo>
                <a:arcTo wR="10800" hR="10800" stAng="657154" swAng="4742846"/>
                <a:lnTo>
                  <a:pt x="10800" y="10800"/>
                </a:lnTo>
                <a:close/>
              </a:path>
              <a:path fill="none" w="21600" h="21600">
                <a:moveTo>
                  <a:pt x="21403" y="12852"/>
                </a:moveTo>
                <a:arcTo wR="10800" hR="10800" stAng="657154" swAng="4742846"/>
              </a:path>
            </a:pathLst>
          </a:custGeom>
          <a:noFill/>
          <a:ln cap="rnd" w="507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10800000">
            <a:off x="4975920" y="635760"/>
            <a:ext cx="4462920" cy="378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26" y="59"/>
                </a:moveTo>
                <a:arcTo wR="10800" hR="10800" stAng="-5040841" swAng="3540042"/>
                <a:lnTo>
                  <a:pt x="10800" y="10800"/>
                </a:lnTo>
                <a:close/>
              </a:path>
              <a:path fill="none" w="21600" h="21600">
                <a:moveTo>
                  <a:pt x="11926" y="59"/>
                </a:moveTo>
                <a:arcTo wR="10800" hR="10800" stAng="-5040841" swAng="3540042"/>
              </a:path>
            </a:pathLst>
          </a:custGeom>
          <a:noFill/>
          <a:ln cap="rnd" w="507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73120" y="1155600"/>
            <a:ext cx="6099120" cy="6375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ealize streaming services and interactive conferences by high performance hardware multi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3244680" y="3589200"/>
            <a:ext cx="446400" cy="352080"/>
            <a:chOff x="3244680" y="3589200"/>
            <a:chExt cx="446400" cy="352080"/>
          </a:xfrm>
        </p:grpSpPr>
        <p:sp>
          <p:nvSpPr>
            <p:cNvPr id="791" name=""/>
            <p:cNvSpPr/>
            <p:nvPr/>
          </p:nvSpPr>
          <p:spPr>
            <a:xfrm>
              <a:off x="3244680" y="3668760"/>
              <a:ext cx="442080" cy="220680"/>
            </a:xfrm>
            <a:prstGeom prst="rect">
              <a:avLst/>
            </a:prstGeom>
            <a:solidFill>
              <a:srgbClr val="ef9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244680" y="3589200"/>
              <a:ext cx="442080" cy="108000"/>
            </a:xfrm>
            <a:prstGeom prst="ellipse">
              <a:avLst/>
            </a:prstGeom>
            <a:solidFill>
              <a:srgbClr val="ef9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257280" y="3840480"/>
              <a:ext cx="433800" cy="10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52" y="11818"/>
                  </a:moveTo>
                  <a:arcTo wR="10800" hR="10800" stAng="324609" swAng="10582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52" y="11818"/>
                  </a:moveTo>
                  <a:arcTo wR="10800" hR="10800" stAng="324609" swAng="10582425"/>
                </a:path>
              </a:pathLst>
            </a:custGeom>
            <a:solidFill>
              <a:srgbClr val="ef91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3136680" y="3305160"/>
            <a:ext cx="74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C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64120" y="1981080"/>
            <a:ext cx="2441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CRS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ulticast rout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73480" y="2189160"/>
            <a:ext cx="1472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nference h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08760" y="1744560"/>
            <a:ext cx="1978200" cy="183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46840" y="4200480"/>
            <a:ext cx="1852560" cy="168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675320" y="4822920"/>
            <a:ext cx="1617480" cy="183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7640" y="5214960"/>
            <a:ext cx="1601640" cy="12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451280" y="1428840"/>
            <a:ext cx="973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iewe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420680" y="3884760"/>
            <a:ext cx="963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iew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185440" y="4529160"/>
            <a:ext cx="963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iewer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rot="5400000">
            <a:off x="-19080" y="2012400"/>
            <a:ext cx="2860560" cy="403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0"/>
                </a:moveTo>
                <a:arcTo wR="10800" hR="10800" stAng="-5403816" swAng="5403816"/>
                <a:lnTo>
                  <a:pt x="10800" y="10800"/>
                </a:lnTo>
                <a:close/>
              </a:path>
              <a:path fill="none" w="21600" h="21600">
                <a:moveTo>
                  <a:pt x="10788" y="0"/>
                </a:moveTo>
                <a:arcTo wR="10800" hR="10800" stAng="-5403816" swAng="5403816"/>
              </a:path>
            </a:pathLst>
          </a:custGeom>
          <a:noFill/>
          <a:ln cap="rnd" w="507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6400" y="4883040"/>
            <a:ext cx="164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ntents pro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029200" y="2654280"/>
            <a:ext cx="1660680" cy="630360"/>
          </a:xfrm>
          <a:custGeom>
            <a:avLst/>
            <a:gdLst>
              <a:gd name="textAreaLeft" fmla="*/ 61200 w 1660680"/>
              <a:gd name="textAreaRight" fmla="*/ 1599480 w 1660680"/>
              <a:gd name="textAreaTop" fmla="*/ 23040 h 630360"/>
              <a:gd name="textAreaBottom" fmla="*/ 503640 h 630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067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High speed Hardware cop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583080" y="2557440"/>
            <a:ext cx="3069720" cy="281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279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0800000">
            <a:off x="2971800" y="5294160"/>
            <a:ext cx="2092320" cy="649440"/>
          </a:xfrm>
          <a:custGeom>
            <a:avLst/>
            <a:gdLst>
              <a:gd name="textAreaLeft" fmla="*/ 77400 w 2092320"/>
              <a:gd name="textAreaRight" fmla="*/ 2014920 w 2092320"/>
              <a:gd name="textAreaTop" fmla="*/ 23760 h 649440"/>
              <a:gd name="textAreaBottom" fmla="*/ 518760 h 649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581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rot="10800000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articipation and secession in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08280" y="4732200"/>
            <a:ext cx="1773000" cy="525600"/>
          </a:xfrm>
          <a:prstGeom prst="roundRect">
            <a:avLst>
              <a:gd name="adj" fmla="val 12495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anages multicast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rot="3180000">
            <a:off x="1163520" y="5303880"/>
            <a:ext cx="1409760" cy="1076400"/>
          </a:xfrm>
          <a:prstGeom prst="triangle">
            <a:avLst>
              <a:gd name="adj" fmla="val 69028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793880" y="5683320"/>
            <a:ext cx="1206360" cy="1054080"/>
          </a:xfrm>
          <a:prstGeom prst="roundRect">
            <a:avLst>
              <a:gd name="adj" fmla="val 12495"/>
            </a:avLst>
          </a:prstGeom>
          <a:solidFill>
            <a:srgbClr val="8cf4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953720" y="6095880"/>
            <a:ext cx="7758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iewer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iewer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iewer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766880" y="5676840"/>
            <a:ext cx="1560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ulticast group me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735280" y="235080"/>
            <a:ext cx="44355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ulticas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4186080" y="3477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85640" y="1300320"/>
            <a:ext cx="838224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GMN-CL (NTT) is one of leading implementation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MPLS V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GMN-CL has advanced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 Efficient use of network resources --- Connectionless transpor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Core Lay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 Elaborate inter-VPN accessibility control --- CUG-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- QoS Control, 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2009880" y="1149480"/>
            <a:ext cx="4948200" cy="10792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95400" indent="-95400">
              <a:buClr>
                <a:srgbClr val="919191"/>
              </a:buClr>
              <a:buSzPct val="75000"/>
              <a:buFont typeface="Monotype Sorts" charset="2"/>
              <a:buChar char="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Hardware Forwarding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95040">
              <a:lnSpc>
                <a:spcPct val="100000"/>
              </a:lnSpc>
              <a:buClr>
                <a:srgbClr val="919191"/>
              </a:buClr>
              <a:buFont typeface="Monotype Sorts" charset="2"/>
              <a:buChar char="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o IP-layer forw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95040">
              <a:lnSpc>
                <a:spcPct val="100000"/>
              </a:lnSpc>
              <a:buClr>
                <a:srgbClr val="919191"/>
              </a:buClr>
              <a:buFont typeface="Monotype Sorts" charset="2"/>
              <a:buChar char="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ell Switching (2nd cell, 3rd cell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41720" y="2878200"/>
            <a:ext cx="59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30600" y="2543040"/>
            <a:ext cx="573120" cy="874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129120" y="2951280"/>
            <a:ext cx="1423800" cy="699840"/>
          </a:xfrm>
          <a:custGeom>
            <a:avLst/>
            <a:gdLst/>
            <a:ahLst/>
            <a:rect l="l" t="t" r="r" b="b"/>
            <a:pathLst>
              <a:path w="972" h="441">
                <a:moveTo>
                  <a:pt x="30" y="440"/>
                </a:moveTo>
                <a:lnTo>
                  <a:pt x="6" y="424"/>
                </a:lnTo>
                <a:lnTo>
                  <a:pt x="0" y="407"/>
                </a:lnTo>
                <a:lnTo>
                  <a:pt x="12" y="396"/>
                </a:lnTo>
                <a:lnTo>
                  <a:pt x="953" y="0"/>
                </a:lnTo>
                <a:lnTo>
                  <a:pt x="965" y="0"/>
                </a:lnTo>
                <a:lnTo>
                  <a:pt x="971" y="16"/>
                </a:lnTo>
                <a:lnTo>
                  <a:pt x="971" y="43"/>
                </a:lnTo>
                <a:lnTo>
                  <a:pt x="30" y="440"/>
                </a:lnTo>
                <a:lnTo>
                  <a:pt x="30" y="413"/>
                </a:lnTo>
                <a:lnTo>
                  <a:pt x="24" y="396"/>
                </a:lnTo>
                <a:lnTo>
                  <a:pt x="12" y="396"/>
                </a:lnTo>
                <a:lnTo>
                  <a:pt x="24" y="396"/>
                </a:lnTo>
                <a:lnTo>
                  <a:pt x="30" y="413"/>
                </a:lnTo>
                <a:lnTo>
                  <a:pt x="30" y="4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7960" y="3843360"/>
            <a:ext cx="581040" cy="920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50800" y="3962520"/>
            <a:ext cx="592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ge No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67240" y="3843360"/>
            <a:ext cx="609480" cy="920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106640" y="3571920"/>
            <a:ext cx="1660320" cy="930240"/>
          </a:xfrm>
          <a:custGeom>
            <a:avLst/>
            <a:gdLst/>
            <a:ahLst/>
            <a:rect l="l" t="t" r="r" b="b"/>
            <a:pathLst>
              <a:path w="1133" h="586">
                <a:moveTo>
                  <a:pt x="1118" y="52"/>
                </a:moveTo>
                <a:lnTo>
                  <a:pt x="1132" y="39"/>
                </a:lnTo>
                <a:lnTo>
                  <a:pt x="1104" y="0"/>
                </a:lnTo>
                <a:lnTo>
                  <a:pt x="1090" y="6"/>
                </a:lnTo>
                <a:lnTo>
                  <a:pt x="14" y="534"/>
                </a:lnTo>
                <a:lnTo>
                  <a:pt x="0" y="547"/>
                </a:lnTo>
                <a:lnTo>
                  <a:pt x="21" y="585"/>
                </a:lnTo>
                <a:lnTo>
                  <a:pt x="42" y="585"/>
                </a:lnTo>
                <a:lnTo>
                  <a:pt x="1118" y="52"/>
                </a:lnTo>
                <a:lnTo>
                  <a:pt x="1104" y="58"/>
                </a:lnTo>
                <a:lnTo>
                  <a:pt x="1076" y="13"/>
                </a:lnTo>
                <a:lnTo>
                  <a:pt x="1090" y="6"/>
                </a:lnTo>
                <a:lnTo>
                  <a:pt x="1076" y="13"/>
                </a:lnTo>
                <a:lnTo>
                  <a:pt x="1104" y="58"/>
                </a:lnTo>
                <a:lnTo>
                  <a:pt x="1118" y="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138480" y="3571920"/>
            <a:ext cx="1430280" cy="793800"/>
          </a:xfrm>
          <a:custGeom>
            <a:avLst/>
            <a:gdLst/>
            <a:ahLst/>
            <a:rect l="l" t="t" r="r" b="b"/>
            <a:pathLst>
              <a:path w="976" h="500">
                <a:moveTo>
                  <a:pt x="6" y="39"/>
                </a:moveTo>
                <a:lnTo>
                  <a:pt x="0" y="28"/>
                </a:lnTo>
                <a:lnTo>
                  <a:pt x="6" y="11"/>
                </a:lnTo>
                <a:lnTo>
                  <a:pt x="31" y="0"/>
                </a:lnTo>
                <a:lnTo>
                  <a:pt x="975" y="454"/>
                </a:lnTo>
                <a:lnTo>
                  <a:pt x="975" y="482"/>
                </a:lnTo>
                <a:lnTo>
                  <a:pt x="951" y="499"/>
                </a:lnTo>
                <a:lnTo>
                  <a:pt x="6" y="39"/>
                </a:lnTo>
                <a:lnTo>
                  <a:pt x="18" y="39"/>
                </a:lnTo>
                <a:lnTo>
                  <a:pt x="31" y="28"/>
                </a:lnTo>
                <a:lnTo>
                  <a:pt x="36" y="11"/>
                </a:lnTo>
                <a:lnTo>
                  <a:pt x="31" y="0"/>
                </a:lnTo>
                <a:lnTo>
                  <a:pt x="36" y="11"/>
                </a:lnTo>
                <a:lnTo>
                  <a:pt x="31" y="28"/>
                </a:lnTo>
                <a:lnTo>
                  <a:pt x="18" y="39"/>
                </a:lnTo>
                <a:lnTo>
                  <a:pt x="6" y="3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138480" y="3571920"/>
            <a:ext cx="1380960" cy="760320"/>
          </a:xfrm>
          <a:custGeom>
            <a:avLst/>
            <a:gdLst/>
            <a:ahLst/>
            <a:rect l="l" t="t" r="r" b="b"/>
            <a:pathLst>
              <a:path w="942" h="479">
                <a:moveTo>
                  <a:pt x="12" y="42"/>
                </a:moveTo>
                <a:lnTo>
                  <a:pt x="0" y="32"/>
                </a:lnTo>
                <a:lnTo>
                  <a:pt x="17" y="0"/>
                </a:lnTo>
                <a:lnTo>
                  <a:pt x="34" y="5"/>
                </a:lnTo>
                <a:lnTo>
                  <a:pt x="929" y="436"/>
                </a:lnTo>
                <a:lnTo>
                  <a:pt x="941" y="447"/>
                </a:lnTo>
                <a:lnTo>
                  <a:pt x="918" y="478"/>
                </a:lnTo>
                <a:lnTo>
                  <a:pt x="906" y="478"/>
                </a:lnTo>
                <a:lnTo>
                  <a:pt x="12" y="42"/>
                </a:lnTo>
                <a:lnTo>
                  <a:pt x="23" y="48"/>
                </a:lnTo>
                <a:lnTo>
                  <a:pt x="45" y="11"/>
                </a:lnTo>
                <a:lnTo>
                  <a:pt x="34" y="5"/>
                </a:lnTo>
                <a:lnTo>
                  <a:pt x="45" y="11"/>
                </a:lnTo>
                <a:lnTo>
                  <a:pt x="23" y="48"/>
                </a:lnTo>
                <a:lnTo>
                  <a:pt x="12" y="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16040" y="3049560"/>
            <a:ext cx="825480" cy="93348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69920" y="4533840"/>
            <a:ext cx="331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100480" y="455760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1195560" y="3187800"/>
            <a:ext cx="23328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1379520" y="3174480"/>
            <a:ext cx="433440" cy="9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920960" y="3185640"/>
            <a:ext cx="21276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181240" y="3235320"/>
            <a:ext cx="936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413080" y="3180960"/>
            <a:ext cx="0" cy="34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733400" y="3186000"/>
            <a:ext cx="81000" cy="72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162160" y="3056040"/>
            <a:ext cx="243000" cy="141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441440" y="3062160"/>
            <a:ext cx="9684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30280" y="3062160"/>
            <a:ext cx="712800" cy="13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911240" y="30542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075040" y="3038400"/>
            <a:ext cx="4161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1666800" y="3902040"/>
            <a:ext cx="946080" cy="123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68800" y="3960720"/>
            <a:ext cx="1577880" cy="11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627280" y="3765600"/>
            <a:ext cx="217440" cy="139680"/>
            <a:chOff x="2627280" y="3765600"/>
            <a:chExt cx="217440" cy="139680"/>
          </a:xfrm>
        </p:grpSpPr>
        <p:sp>
          <p:nvSpPr>
            <p:cNvPr id="844" name=""/>
            <p:cNvSpPr/>
            <p:nvPr/>
          </p:nvSpPr>
          <p:spPr>
            <a:xfrm>
              <a:off x="2627280" y="3765600"/>
              <a:ext cx="217440" cy="13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60760" y="3810240"/>
              <a:ext cx="16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60760" y="3865680"/>
              <a:ext cx="16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 flipV="1">
            <a:off x="2774880" y="375768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689120" y="3803760"/>
            <a:ext cx="254160" cy="210960"/>
          </a:xfrm>
          <a:custGeom>
            <a:avLst/>
            <a:gdLst/>
            <a:ahLst/>
            <a:rect l="l" t="t" r="r" b="b"/>
            <a:pathLst>
              <a:path w="173" h="133">
                <a:moveTo>
                  <a:pt x="135" y="0"/>
                </a:moveTo>
                <a:lnTo>
                  <a:pt x="172" y="70"/>
                </a:lnTo>
                <a:lnTo>
                  <a:pt x="44" y="132"/>
                </a:lnTo>
                <a:lnTo>
                  <a:pt x="0" y="63"/>
                </a:lnTo>
                <a:lnTo>
                  <a:pt x="135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27360" y="3878280"/>
            <a:ext cx="612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19920000">
            <a:off x="1781640" y="37875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206800" y="3517920"/>
            <a:ext cx="255240" cy="210960"/>
          </a:xfrm>
          <a:custGeom>
            <a:avLst/>
            <a:gdLst/>
            <a:ahLst/>
            <a:rect l="l" t="t" r="r" b="b"/>
            <a:pathLst>
              <a:path w="174" h="133">
                <a:moveTo>
                  <a:pt x="136" y="0"/>
                </a:moveTo>
                <a:lnTo>
                  <a:pt x="173" y="69"/>
                </a:lnTo>
                <a:lnTo>
                  <a:pt x="38" y="132"/>
                </a:lnTo>
                <a:lnTo>
                  <a:pt x="0" y="62"/>
                </a:lnTo>
                <a:lnTo>
                  <a:pt x="136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44680" y="3592440"/>
            <a:ext cx="792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9920000">
            <a:off x="2299320" y="34891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11480" y="3560760"/>
            <a:ext cx="164880" cy="174600"/>
          </a:xfrm>
          <a:custGeom>
            <a:avLst/>
            <a:gdLst/>
            <a:ahLst/>
            <a:rect l="l" t="t" r="r" b="b"/>
            <a:pathLst>
              <a:path w="113" h="110">
                <a:moveTo>
                  <a:pt x="76" y="0"/>
                </a:moveTo>
                <a:lnTo>
                  <a:pt x="112" y="70"/>
                </a:lnTo>
                <a:lnTo>
                  <a:pt x="36" y="109"/>
                </a:lnTo>
                <a:lnTo>
                  <a:pt x="0" y="38"/>
                </a:lnTo>
                <a:lnTo>
                  <a:pt x="7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3100320" y="3821040"/>
            <a:ext cx="152640" cy="128520"/>
            <a:chOff x="3100320" y="3821040"/>
            <a:chExt cx="152640" cy="128520"/>
          </a:xfrm>
        </p:grpSpPr>
        <p:sp>
          <p:nvSpPr>
            <p:cNvPr id="856" name=""/>
            <p:cNvSpPr/>
            <p:nvPr/>
          </p:nvSpPr>
          <p:spPr>
            <a:xfrm>
              <a:off x="3100320" y="3821040"/>
              <a:ext cx="152640" cy="12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21920" y="386532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21920" y="3908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 flipV="1">
            <a:off x="3209760" y="38084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859120" y="3909960"/>
            <a:ext cx="120600" cy="12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105000" y="3960720"/>
            <a:ext cx="225720" cy="11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rot="19920000">
            <a:off x="1620360" y="4057560"/>
            <a:ext cx="80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VP(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rot="20160000">
            <a:off x="3729960" y="3220920"/>
            <a:ext cx="71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VP(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rot="1680000">
            <a:off x="3497040" y="3998880"/>
            <a:ext cx="71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VP(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773680" y="2768760"/>
            <a:ext cx="3259080" cy="3468600"/>
          </a:xfrm>
          <a:custGeom>
            <a:avLst/>
            <a:gdLst>
              <a:gd name="textAreaLeft" fmla="*/ 118800 w 3259080"/>
              <a:gd name="textAreaRight" fmla="*/ 3140280 w 3259080"/>
              <a:gd name="textAreaTop" fmla="*/ 118800 h 3468600"/>
              <a:gd name="textAreaBottom" fmla="*/ 3349800 h 3468600"/>
            </a:gdLst>
            <a:ahLst/>
            <a:rect l="textAreaLeft" t="textAreaTop" r="textAreaRight" b="textAreaBottom"/>
            <a:pathLst>
              <a:path w="21600" h="22988">
                <a:moveTo>
                  <a:pt x="2693" y="0"/>
                </a:moveTo>
                <a:arcTo wR="2693" hR="2693" stAng="16200000" swAng="-5400000"/>
                <a:lnTo>
                  <a:pt x="0" y="20295"/>
                </a:lnTo>
                <a:arcTo wR="2693" hR="2693" stAng="10800000" swAng="-5400000"/>
                <a:lnTo>
                  <a:pt x="18907" y="22988"/>
                </a:lnTo>
                <a:arcTo wR="2693" hR="2693" stAng="5400000" swAng="-5400000"/>
                <a:lnTo>
                  <a:pt x="21600" y="2693"/>
                </a:lnTo>
                <a:arcTo wR="2693" hR="2693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163520" y="4076640"/>
            <a:ext cx="254160" cy="211320"/>
          </a:xfrm>
          <a:custGeom>
            <a:avLst/>
            <a:gdLst/>
            <a:ahLst/>
            <a:rect l="l" t="t" r="r" b="b"/>
            <a:pathLst>
              <a:path w="173" h="133">
                <a:moveTo>
                  <a:pt x="135" y="0"/>
                </a:moveTo>
                <a:lnTo>
                  <a:pt x="172" y="70"/>
                </a:lnTo>
                <a:lnTo>
                  <a:pt x="44" y="132"/>
                </a:lnTo>
                <a:lnTo>
                  <a:pt x="0" y="63"/>
                </a:lnTo>
                <a:lnTo>
                  <a:pt x="135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00320" y="4151160"/>
            <a:ext cx="468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9920000">
            <a:off x="1254600" y="40604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642000" y="3473280"/>
            <a:ext cx="0" cy="230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264360" y="3583080"/>
            <a:ext cx="35568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254640" y="3735360"/>
            <a:ext cx="35568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257880" y="3887640"/>
            <a:ext cx="35388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257880" y="4040280"/>
            <a:ext cx="35568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680160" y="5251320"/>
            <a:ext cx="35568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678720" y="5403960"/>
            <a:ext cx="35532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680160" y="5556240"/>
            <a:ext cx="35568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681960" y="5708520"/>
            <a:ext cx="35532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856120" y="4202280"/>
            <a:ext cx="1293840" cy="25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ells→IP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178680" y="4527720"/>
            <a:ext cx="958680" cy="22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P Ro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867280" y="4836960"/>
            <a:ext cx="1270080" cy="22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P Packet→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193240" y="3473280"/>
            <a:ext cx="0" cy="23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813800" y="3654360"/>
            <a:ext cx="35532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229600" y="4492800"/>
            <a:ext cx="353880" cy="4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450200" y="3781440"/>
            <a:ext cx="1454040" cy="58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ell Forward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Core Address looku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554960" y="4927680"/>
            <a:ext cx="1312920" cy="65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ell Forward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Cell Forwarding Table looku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805880" y="4741920"/>
            <a:ext cx="35532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221680" y="5664240"/>
            <a:ext cx="35568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834520" y="3657240"/>
            <a:ext cx="302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61240" y="2952720"/>
            <a:ext cx="1266480" cy="362160"/>
          </a:xfrm>
          <a:prstGeom prst="roundRect">
            <a:avLst>
              <a:gd name="adj" fmla="val 2705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oftware Forwar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 IP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45520" y="2960640"/>
            <a:ext cx="1458720" cy="362160"/>
          </a:xfrm>
          <a:prstGeom prst="roundRect">
            <a:avLst>
              <a:gd name="adj" fmla="val 327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Hardware Forwar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 ATM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057160" y="5741640"/>
            <a:ext cx="302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496560" y="5730480"/>
            <a:ext cx="302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226280" y="3944880"/>
            <a:ext cx="223920" cy="6984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3157560" y="3811680"/>
            <a:ext cx="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625920" y="3622680"/>
            <a:ext cx="247680" cy="223920"/>
          </a:xfrm>
          <a:custGeom>
            <a:avLst/>
            <a:gdLst/>
            <a:ahLst/>
            <a:rect l="l" t="t" r="r" b="b"/>
            <a:pathLst>
              <a:path w="169" h="141">
                <a:moveTo>
                  <a:pt x="168" y="67"/>
                </a:moveTo>
                <a:lnTo>
                  <a:pt x="129" y="140"/>
                </a:lnTo>
                <a:lnTo>
                  <a:pt x="0" y="66"/>
                </a:lnTo>
                <a:lnTo>
                  <a:pt x="43" y="0"/>
                </a:lnTo>
                <a:lnTo>
                  <a:pt x="168" y="6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3715920" y="3716280"/>
            <a:ext cx="10332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rot="1800000">
            <a:off x="3672720" y="36748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887640" y="3762360"/>
            <a:ext cx="249480" cy="222120"/>
          </a:xfrm>
          <a:custGeom>
            <a:avLst/>
            <a:gdLst/>
            <a:ahLst/>
            <a:rect l="l" t="t" r="r" b="b"/>
            <a:pathLst>
              <a:path w="170" h="140">
                <a:moveTo>
                  <a:pt x="169" y="73"/>
                </a:moveTo>
                <a:lnTo>
                  <a:pt x="124" y="139"/>
                </a:lnTo>
                <a:lnTo>
                  <a:pt x="0" y="72"/>
                </a:lnTo>
                <a:lnTo>
                  <a:pt x="39" y="0"/>
                </a:lnTo>
                <a:lnTo>
                  <a:pt x="169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974760" y="3855960"/>
            <a:ext cx="96840" cy="4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rot="1800000">
            <a:off x="3929760" y="38016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145040" y="3898800"/>
            <a:ext cx="255600" cy="2224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173" y="73"/>
                </a:moveTo>
                <a:lnTo>
                  <a:pt x="130" y="139"/>
                </a:lnTo>
                <a:lnTo>
                  <a:pt x="0" y="67"/>
                </a:lnTo>
                <a:lnTo>
                  <a:pt x="44" y="0"/>
                </a:lnTo>
                <a:lnTo>
                  <a:pt x="173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4236840" y="3994200"/>
            <a:ext cx="99720" cy="5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141800" y="3903840"/>
            <a:ext cx="177840" cy="168120"/>
          </a:xfrm>
          <a:custGeom>
            <a:avLst/>
            <a:gdLst/>
            <a:ahLst/>
            <a:rect l="l" t="t" r="r" b="b"/>
            <a:pathLst>
              <a:path w="122" h="106">
                <a:moveTo>
                  <a:pt x="121" y="40"/>
                </a:moveTo>
                <a:lnTo>
                  <a:pt x="77" y="105"/>
                </a:lnTo>
                <a:lnTo>
                  <a:pt x="0" y="66"/>
                </a:lnTo>
                <a:lnTo>
                  <a:pt x="46" y="0"/>
                </a:lnTo>
                <a:lnTo>
                  <a:pt x="121" y="4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1800000">
            <a:off x="4215600" y="39492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60360" y="106200"/>
            <a:ext cx="7413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400"/>
                </a:solidFill>
                <a:latin typeface="Times New Roman"/>
                <a:ea typeface="ＭＳ ゴシック"/>
              </a:rPr>
              <a:t>(Ref.) Small Delay &amp; High-speed Forwarding in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400"/>
                </a:solidFill>
                <a:latin typeface="Times New Roman"/>
                <a:ea typeface="ＭＳ ゴシック"/>
              </a:rPr>
              <a:t>Transfe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245600" y="2685960"/>
            <a:ext cx="1418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505240" y="3048120"/>
            <a:ext cx="9237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ransfer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364400" y="4575240"/>
            <a:ext cx="17510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Forwar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905200" y="4503600"/>
            <a:ext cx="168444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ell Forwar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66800" y="5643720"/>
            <a:ext cx="768600" cy="28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2448000" y="5121000"/>
            <a:ext cx="0" cy="14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676520" y="5130720"/>
            <a:ext cx="1303200" cy="139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693800" y="5945040"/>
            <a:ext cx="127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93800" y="6229440"/>
            <a:ext cx="127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155680" y="5992920"/>
            <a:ext cx="433080" cy="204480"/>
            <a:chOff x="2155680" y="5992920"/>
            <a:chExt cx="433080" cy="204480"/>
          </a:xfrm>
        </p:grpSpPr>
        <p:sp>
          <p:nvSpPr>
            <p:cNvPr id="916" name=""/>
            <p:cNvSpPr/>
            <p:nvPr/>
          </p:nvSpPr>
          <p:spPr>
            <a:xfrm>
              <a:off x="2365920" y="5992920"/>
              <a:ext cx="222840" cy="204480"/>
            </a:xfrm>
            <a:custGeom>
              <a:avLst/>
              <a:gdLst/>
              <a:ahLst/>
              <a:rect l="l" t="t" r="r" b="b"/>
              <a:pathLst>
                <a:path w="99" h="85">
                  <a:moveTo>
                    <a:pt x="9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98" y="4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55680" y="6096600"/>
              <a:ext cx="23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1873440" y="6200640"/>
            <a:ext cx="27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57600" y="5908680"/>
            <a:ext cx="27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70400" y="6200640"/>
            <a:ext cx="27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570400" y="5908680"/>
            <a:ext cx="27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761480" y="5653080"/>
            <a:ext cx="65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446920" y="5645160"/>
            <a:ext cx="599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P=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43120" y="5124600"/>
            <a:ext cx="679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411280" y="5129280"/>
            <a:ext cx="605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o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681200" y="5634000"/>
            <a:ext cx="129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93800" y="5587920"/>
            <a:ext cx="127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352680" y="5743440"/>
            <a:ext cx="1071720" cy="233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402000" y="5734080"/>
            <a:ext cx="3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00200" y="5734080"/>
            <a:ext cx="21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14640" y="574200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4437000" y="5160960"/>
            <a:ext cx="0" cy="136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44760" y="5160960"/>
            <a:ext cx="1524240" cy="13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344760" y="5987880"/>
            <a:ext cx="152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344760" y="6256440"/>
            <a:ext cx="152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4176720" y="5770440"/>
            <a:ext cx="313920" cy="193320"/>
            <a:chOff x="4176720" y="5770440"/>
            <a:chExt cx="313920" cy="193320"/>
          </a:xfrm>
        </p:grpSpPr>
        <p:sp>
          <p:nvSpPr>
            <p:cNvPr id="937" name=""/>
            <p:cNvSpPr/>
            <p:nvPr/>
          </p:nvSpPr>
          <p:spPr>
            <a:xfrm>
              <a:off x="4309920" y="5770440"/>
              <a:ext cx="180720" cy="193320"/>
            </a:xfrm>
            <a:custGeom>
              <a:avLst/>
              <a:gdLst/>
              <a:ahLst/>
              <a:rect l="l" t="t" r="r" b="b"/>
              <a:pathLst>
                <a:path w="99" h="85">
                  <a:moveTo>
                    <a:pt x="9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98" y="4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176720" y="5868360"/>
              <a:ext cx="131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3395520" y="5977080"/>
            <a:ext cx="3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14640" y="600228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446640" y="6219720"/>
            <a:ext cx="27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511880" y="6219720"/>
            <a:ext cx="27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13960" y="5719680"/>
            <a:ext cx="53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P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413960" y="6005520"/>
            <a:ext cx="53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P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360600" y="5719680"/>
            <a:ext cx="148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3786120" y="5160960"/>
            <a:ext cx="0" cy="136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915000" y="6219720"/>
            <a:ext cx="27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2760" y="5186520"/>
            <a:ext cx="605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o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297240" y="5187960"/>
            <a:ext cx="545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o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715920" y="5191200"/>
            <a:ext cx="784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acket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VC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863000" y="3041640"/>
            <a:ext cx="343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P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705640" y="3382920"/>
            <a:ext cx="65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s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705640" y="3535200"/>
            <a:ext cx="664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nd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044800" y="6524640"/>
            <a:ext cx="65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s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856400" y="6089760"/>
            <a:ext cx="702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n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r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327720" y="3735360"/>
            <a:ext cx="1103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48400" y="3421080"/>
            <a:ext cx="65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s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448760" y="4525920"/>
            <a:ext cx="70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n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589800" y="2451240"/>
            <a:ext cx="194472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rocess Sequence in Core transfer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103720" y="6435720"/>
            <a:ext cx="221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30600" y="4038480"/>
            <a:ext cx="727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ge No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565520" y="2666880"/>
            <a:ext cx="615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ge No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6120" y="1073160"/>
            <a:ext cx="4753080" cy="4770360"/>
          </a:xfrm>
          <a:prstGeom prst="rect">
            <a:avLst/>
          </a:prstGeom>
          <a:solidFill>
            <a:srgbClr val="ffff99"/>
          </a:solidFill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95600" y="344520"/>
            <a:ext cx="65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GMN-C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557360"/>
            <a:ext cx="4267080" cy="91908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ectrum Cyber Society (E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Cyber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Cyber Softw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951280"/>
            <a:ext cx="4267080" cy="169380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Mega-media Network (GM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arget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- Multimedia network servic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0 Mbits transfer per secon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- Price is 10,000 yen per mont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- Realizing until the year 20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5132520"/>
            <a:ext cx="4267080" cy="51264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Photonic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15040" y="1098720"/>
            <a:ext cx="3676680" cy="990360"/>
          </a:xfrm>
          <a:prstGeom prst="wedgeRoundRectCallout">
            <a:avLst>
              <a:gd name="adj1" fmla="val -55620"/>
              <a:gd name="adj2" fmla="val 76120"/>
              <a:gd name="adj3" fmla="val 16667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ovative NTT R&amp;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0240" y="6049800"/>
            <a:ext cx="67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GMN : Global Megamedia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GMN-CL : ConnectionLess Networking Technologies for G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3333600"/>
            <a:ext cx="609480" cy="609840"/>
          </a:xfrm>
          <a:prstGeom prst="rightArrow">
            <a:avLst>
              <a:gd name="adj1" fmla="val 43750"/>
              <a:gd name="adj2" fmla="val 33593"/>
            </a:avLst>
          </a:prstGeom>
          <a:gradFill rotWithShape="0">
            <a:gsLst>
              <a:gs pos="0">
                <a:srgbClr val="a7a7a7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2496960"/>
            <a:ext cx="3581640" cy="3569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8840" y="2606760"/>
            <a:ext cx="3422880" cy="37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GMN-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he first step towards the Mega-media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Label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PN (Virtual Pr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etwork)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QoS (Quality of Servi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uaran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･ ･ ･ ･ 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3480" y="10666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pplicatio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560" y="252720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etwork Servi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760" y="467352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Infrastructur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73280" y="5181480"/>
            <a:ext cx="7878600" cy="59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f91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08480" y="5410080"/>
            <a:ext cx="1391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TM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1120" y="4114800"/>
            <a:ext cx="140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1448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MN-CL (Label Switching Technology of NTT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39760" y="2514600"/>
            <a:ext cx="5134320" cy="3048120"/>
          </a:xfrm>
          <a:prstGeom prst="roundRect">
            <a:avLst>
              <a:gd name="adj" fmla="val 12449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90760" y="4267080"/>
            <a:ext cx="4432320" cy="1143000"/>
          </a:xfrm>
          <a:prstGeom prst="roundRect">
            <a:avLst>
              <a:gd name="adj" fmla="val 12495"/>
            </a:avLst>
          </a:prstGeom>
          <a:solidFill>
            <a:srgbClr val="ffa27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69920" y="4191120"/>
            <a:ext cx="2532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90760" y="2819520"/>
            <a:ext cx="4432320" cy="1218960"/>
          </a:xfrm>
          <a:prstGeom prst="roundRect">
            <a:avLst>
              <a:gd name="adj" fmla="val 12495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7680" y="3736800"/>
            <a:ext cx="493560" cy="939960"/>
          </a:xfrm>
          <a:prstGeom prst="rect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3886200"/>
            <a:ext cx="668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g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697000" y="3551400"/>
            <a:ext cx="605520" cy="334800"/>
            <a:chOff x="5697000" y="3551400"/>
            <a:chExt cx="605520" cy="334800"/>
          </a:xfrm>
        </p:grpSpPr>
        <p:sp>
          <p:nvSpPr>
            <p:cNvPr id="75" name=""/>
            <p:cNvSpPr/>
            <p:nvPr/>
          </p:nvSpPr>
          <p:spPr>
            <a:xfrm>
              <a:off x="5937480" y="3551400"/>
              <a:ext cx="365040" cy="33480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97000" y="3587040"/>
              <a:ext cx="283320" cy="29016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65760" y="3636000"/>
              <a:ext cx="474120" cy="12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62" y="3189"/>
                  </a:moveTo>
                  <a:arcTo wR="10800" hR="10800" stAng="-2688443" swAng="155877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62" y="3189"/>
                  </a:moveTo>
                  <a:arcTo wR="10800" hR="10800" stAng="-2688443" swAng="155877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743200" y="6343560"/>
            <a:ext cx="4876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Qo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Quality of Service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C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ulticas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P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irtual Private Network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PN-ID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：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PN Ident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801680" y="3551400"/>
            <a:ext cx="605520" cy="334800"/>
            <a:chOff x="4801680" y="3551400"/>
            <a:chExt cx="605520" cy="334800"/>
          </a:xfrm>
        </p:grpSpPr>
        <p:sp>
          <p:nvSpPr>
            <p:cNvPr id="80" name=""/>
            <p:cNvSpPr/>
            <p:nvPr/>
          </p:nvSpPr>
          <p:spPr>
            <a:xfrm>
              <a:off x="5042160" y="3551400"/>
              <a:ext cx="365040" cy="33480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801680" y="3587040"/>
              <a:ext cx="283320" cy="29016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0440" y="3636000"/>
              <a:ext cx="474120" cy="12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62" y="3189"/>
                  </a:moveTo>
                  <a:arcTo wR="10800" hR="10800" stAng="-2688443" swAng="155877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62" y="3189"/>
                  </a:moveTo>
                  <a:arcTo wR="10800" hR="10800" stAng="-2688443" swAng="155877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895200" y="3551400"/>
            <a:ext cx="606600" cy="334800"/>
            <a:chOff x="3895200" y="3551400"/>
            <a:chExt cx="606600" cy="334800"/>
          </a:xfrm>
        </p:grpSpPr>
        <p:sp>
          <p:nvSpPr>
            <p:cNvPr id="84" name=""/>
            <p:cNvSpPr/>
            <p:nvPr/>
          </p:nvSpPr>
          <p:spPr>
            <a:xfrm>
              <a:off x="4136040" y="3551400"/>
              <a:ext cx="365760" cy="33480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895200" y="3587040"/>
              <a:ext cx="284040" cy="29016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3960" y="3636000"/>
              <a:ext cx="475200" cy="12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62" y="3189"/>
                  </a:moveTo>
                  <a:arcTo wR="10800" hR="10800" stAng="-2688443" swAng="155877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62" y="3189"/>
                  </a:moveTo>
                  <a:arcTo wR="10800" hR="10800" stAng="-2688443" swAng="155877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09440" y="3551400"/>
            <a:ext cx="604800" cy="334800"/>
            <a:chOff x="2809440" y="3551400"/>
            <a:chExt cx="604800" cy="334800"/>
          </a:xfrm>
        </p:grpSpPr>
        <p:sp>
          <p:nvSpPr>
            <p:cNvPr id="88" name=""/>
            <p:cNvSpPr/>
            <p:nvPr/>
          </p:nvSpPr>
          <p:spPr>
            <a:xfrm>
              <a:off x="3049560" y="3551400"/>
              <a:ext cx="364680" cy="33480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09440" y="3587040"/>
              <a:ext cx="283320" cy="29016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78200" y="3636000"/>
              <a:ext cx="473760" cy="12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62" y="3189"/>
                  </a:moveTo>
                  <a:arcTo wR="10800" hR="10800" stAng="-2688443" swAng="155877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62" y="3189"/>
                  </a:moveTo>
                  <a:arcTo wR="10800" hR="10800" stAng="-2688443" swAng="155877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234120" y="331308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721480" y="3276720"/>
            <a:ext cx="542520" cy="385200"/>
            <a:chOff x="5721480" y="3276720"/>
            <a:chExt cx="542520" cy="385200"/>
          </a:xfrm>
        </p:grpSpPr>
        <p:sp>
          <p:nvSpPr>
            <p:cNvPr id="93" name=""/>
            <p:cNvSpPr/>
            <p:nvPr/>
          </p:nvSpPr>
          <p:spPr>
            <a:xfrm>
              <a:off x="5721480" y="3364920"/>
              <a:ext cx="537480" cy="248760"/>
            </a:xfrm>
            <a:prstGeom prst="rect">
              <a:avLst/>
            </a:prstGeom>
            <a:solidFill>
              <a:srgbClr val="a3f2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21480" y="3276720"/>
              <a:ext cx="537480" cy="123120"/>
            </a:xfrm>
            <a:prstGeom prst="ellipse">
              <a:avLst/>
            </a:prstGeom>
            <a:solidFill>
              <a:srgbClr val="a3f2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37320" y="3548160"/>
              <a:ext cx="526680" cy="1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73" y="11568"/>
                  </a:moveTo>
                  <a:arcTo wR="10800" hR="10800" stAng="244747" swAng="1071658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73" y="11568"/>
                  </a:moveTo>
                  <a:arcTo wR="10800" hR="10800" stAng="244747" swAng="10716582"/>
                </a:path>
              </a:pathLst>
            </a:custGeom>
            <a:solidFill>
              <a:srgbClr val="a3f25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687280" y="3344760"/>
            <a:ext cx="5778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P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836960" y="3270240"/>
            <a:ext cx="544320" cy="385200"/>
            <a:chOff x="4836960" y="3270240"/>
            <a:chExt cx="544320" cy="385200"/>
          </a:xfrm>
        </p:grpSpPr>
        <p:sp>
          <p:nvSpPr>
            <p:cNvPr id="98" name=""/>
            <p:cNvSpPr/>
            <p:nvPr/>
          </p:nvSpPr>
          <p:spPr>
            <a:xfrm>
              <a:off x="4836960" y="3358800"/>
              <a:ext cx="538560" cy="248040"/>
            </a:xfrm>
            <a:prstGeom prst="rect">
              <a:avLst/>
            </a:prstGeom>
            <a:solidFill>
              <a:srgbClr val="a3f2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36960" y="3270240"/>
              <a:ext cx="538560" cy="123480"/>
            </a:xfrm>
            <a:prstGeom prst="ellipse">
              <a:avLst/>
            </a:prstGeom>
            <a:solidFill>
              <a:srgbClr val="a3f2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53520" y="3541680"/>
              <a:ext cx="527760" cy="1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73" y="11568"/>
                  </a:moveTo>
                  <a:arcTo wR="10800" hR="10800" stAng="244747" swAng="1071658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73" y="11568"/>
                  </a:moveTo>
                  <a:arcTo wR="10800" hR="10800" stAng="244747" swAng="10716582"/>
                </a:path>
              </a:pathLst>
            </a:custGeom>
            <a:solidFill>
              <a:srgbClr val="a3f25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799880" y="3352680"/>
            <a:ext cx="5778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903840" y="3295800"/>
            <a:ext cx="543960" cy="385200"/>
            <a:chOff x="3903840" y="3295800"/>
            <a:chExt cx="543960" cy="385200"/>
          </a:xfrm>
        </p:grpSpPr>
        <p:sp>
          <p:nvSpPr>
            <p:cNvPr id="103" name=""/>
            <p:cNvSpPr/>
            <p:nvPr/>
          </p:nvSpPr>
          <p:spPr>
            <a:xfrm>
              <a:off x="3903840" y="3384000"/>
              <a:ext cx="538920" cy="248400"/>
            </a:xfrm>
            <a:prstGeom prst="rect">
              <a:avLst/>
            </a:prstGeom>
            <a:solidFill>
              <a:srgbClr val="a3f2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3840" y="3295800"/>
              <a:ext cx="538920" cy="123480"/>
            </a:xfrm>
            <a:prstGeom prst="ellipse">
              <a:avLst/>
            </a:prstGeom>
            <a:solidFill>
              <a:srgbClr val="a3f2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19680" y="3567240"/>
              <a:ext cx="528120" cy="1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73" y="11568"/>
                  </a:moveTo>
                  <a:arcTo wR="10800" hR="10800" stAng="244747" swAng="1071658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73" y="11568"/>
                  </a:moveTo>
                  <a:arcTo wR="10800" hR="10800" stAng="244747" swAng="10716582"/>
                </a:path>
              </a:pathLst>
            </a:custGeom>
            <a:solidFill>
              <a:srgbClr val="a3f25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68560" y="3386160"/>
            <a:ext cx="7034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09800" y="3279600"/>
            <a:ext cx="542520" cy="385200"/>
            <a:chOff x="2809800" y="3279600"/>
            <a:chExt cx="542520" cy="385200"/>
          </a:xfrm>
        </p:grpSpPr>
        <p:sp>
          <p:nvSpPr>
            <p:cNvPr id="108" name=""/>
            <p:cNvSpPr/>
            <p:nvPr/>
          </p:nvSpPr>
          <p:spPr>
            <a:xfrm>
              <a:off x="2809800" y="3368160"/>
              <a:ext cx="537480" cy="248760"/>
            </a:xfrm>
            <a:prstGeom prst="rect">
              <a:avLst/>
            </a:prstGeom>
            <a:solidFill>
              <a:srgbClr val="a3f2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09800" y="3279600"/>
              <a:ext cx="537480" cy="123480"/>
            </a:xfrm>
            <a:prstGeom prst="ellipse">
              <a:avLst/>
            </a:prstGeom>
            <a:solidFill>
              <a:srgbClr val="a3f2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25640" y="3551040"/>
              <a:ext cx="526680" cy="11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73" y="11568"/>
                  </a:moveTo>
                  <a:arcTo wR="10800" hR="10800" stAng="244747" swAng="1071658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73" y="11568"/>
                  </a:moveTo>
                  <a:arcTo wR="10800" hR="10800" stAng="244747" swAng="10716582"/>
                </a:path>
              </a:pathLst>
            </a:custGeom>
            <a:solidFill>
              <a:srgbClr val="a3f25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766960" y="3355920"/>
            <a:ext cx="67968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o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7760" y="3124080"/>
            <a:ext cx="3165480" cy="831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00040" y="2970720"/>
            <a:ext cx="2312640" cy="307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ers for advance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160" y="3792600"/>
            <a:ext cx="1114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3280" y="3657600"/>
            <a:ext cx="76068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5200" y="3968640"/>
            <a:ext cx="106704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1920" y="397368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349880"/>
            <a:ext cx="990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41400" y="3921120"/>
            <a:ext cx="506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aa.bb.cc.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32640" y="4111560"/>
            <a:ext cx="140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72320" y="3789360"/>
            <a:ext cx="111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04800" y="3654360"/>
            <a:ext cx="76068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86720" y="3965400"/>
            <a:ext cx="106668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53440" y="397044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53280" y="4343400"/>
            <a:ext cx="990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32920" y="3917880"/>
            <a:ext cx="506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aa.bb.cc.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2440" y="2819520"/>
            <a:ext cx="1828800" cy="380880"/>
          </a:xfrm>
          <a:prstGeom prst="wedgeRectCallout">
            <a:avLst>
              <a:gd name="adj1" fmla="val 39421"/>
              <a:gd name="adj2" fmla="val 22583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e encapsul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909960" y="4114800"/>
            <a:ext cx="1099440" cy="456840"/>
            <a:chOff x="3909960" y="4114800"/>
            <a:chExt cx="1099440" cy="456840"/>
          </a:xfrm>
        </p:grpSpPr>
        <p:sp>
          <p:nvSpPr>
            <p:cNvPr id="129" name=""/>
            <p:cNvSpPr/>
            <p:nvPr/>
          </p:nvSpPr>
          <p:spPr>
            <a:xfrm>
              <a:off x="3909960" y="4114800"/>
              <a:ext cx="1049760" cy="45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34800" y="4114800"/>
              <a:ext cx="10746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Forwar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contro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427560" y="2666880"/>
            <a:ext cx="2363400" cy="304920"/>
            <a:chOff x="3427560" y="2666880"/>
            <a:chExt cx="2363400" cy="304920"/>
          </a:xfrm>
        </p:grpSpPr>
        <p:sp>
          <p:nvSpPr>
            <p:cNvPr id="132" name=""/>
            <p:cNvSpPr/>
            <p:nvPr/>
          </p:nvSpPr>
          <p:spPr>
            <a:xfrm>
              <a:off x="3427560" y="2666880"/>
              <a:ext cx="23634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61280" y="2666880"/>
              <a:ext cx="1856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Routing control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982880" y="220968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r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41920" y="4952880"/>
            <a:ext cx="11253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838840" y="4114800"/>
            <a:ext cx="1265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67080" y="4673520"/>
            <a:ext cx="914040" cy="588240"/>
            <a:chOff x="4267080" y="4673520"/>
            <a:chExt cx="914040" cy="588240"/>
          </a:xfrm>
        </p:grpSpPr>
        <p:sp>
          <p:nvSpPr>
            <p:cNvPr id="138" name=""/>
            <p:cNvSpPr/>
            <p:nvPr/>
          </p:nvSpPr>
          <p:spPr>
            <a:xfrm>
              <a:off x="4345920" y="4673520"/>
              <a:ext cx="617760" cy="580320"/>
            </a:xfrm>
            <a:prstGeom prst="rect">
              <a:avLst/>
            </a:prstGeom>
            <a:solidFill>
              <a:srgbClr val="a3f2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735440"/>
              <a:ext cx="91404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Cor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Transf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962760" y="3664080"/>
            <a:ext cx="465120" cy="939600"/>
          </a:xfrm>
          <a:prstGeom prst="rect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523960" y="4269600"/>
            <a:ext cx="1838520" cy="1195920"/>
            <a:chOff x="2523960" y="4269600"/>
            <a:chExt cx="1838520" cy="1195920"/>
          </a:xfrm>
        </p:grpSpPr>
        <p:sp>
          <p:nvSpPr>
            <p:cNvPr id="142" name=""/>
            <p:cNvSpPr/>
            <p:nvPr/>
          </p:nvSpPr>
          <p:spPr>
            <a:xfrm>
              <a:off x="2523960" y="4574880"/>
              <a:ext cx="1760040" cy="50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2608200" y="4269600"/>
              <a:ext cx="1549440" cy="927720"/>
              <a:chOff x="2608200" y="4269600"/>
              <a:chExt cx="1549440" cy="927720"/>
            </a:xfrm>
          </p:grpSpPr>
          <p:sp>
            <p:nvSpPr>
              <p:cNvPr id="144" name=""/>
              <p:cNvSpPr/>
              <p:nvPr/>
            </p:nvSpPr>
            <p:spPr>
              <a:xfrm rot="952200">
                <a:off x="3663360" y="4844880"/>
                <a:ext cx="414720" cy="3013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48600" y="4345200"/>
                <a:ext cx="1409040" cy="40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952200">
                <a:off x="2628720" y="4641840"/>
                <a:ext cx="1068840" cy="30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252960" y="4689000"/>
                <a:ext cx="7956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952200">
                <a:off x="3240720" y="4715640"/>
                <a:ext cx="54072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I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addres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952200">
                <a:off x="3689640" y="4784400"/>
                <a:ext cx="398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800" spc="-1" strike="noStrike">
                    <a:solidFill>
                      <a:srgbClr val="000000"/>
                    </a:solidFill>
                    <a:latin typeface="Times New Roman"/>
                  </a:rPr>
                  <a:t>xxx-yy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952200">
                <a:off x="2998080" y="4358520"/>
                <a:ext cx="681480" cy="21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Core Pack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rot="952200">
              <a:off x="3301920" y="5144400"/>
              <a:ext cx="1055880" cy="1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re Hea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160" y="1295280"/>
            <a:ext cx="24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98640" y="5867280"/>
            <a:ext cx="5114880" cy="304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49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85440" y="5791680"/>
            <a:ext cx="2001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anagement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69920" y="4495680"/>
            <a:ext cx="914400" cy="14479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16480" y="5638680"/>
            <a:ext cx="71280" cy="3049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838480" y="4419720"/>
            <a:ext cx="126540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712760" y="5486400"/>
            <a:ext cx="140040" cy="4827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3440" y="3828960"/>
            <a:ext cx="668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g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92240" y="1143000"/>
            <a:ext cx="7213680" cy="9716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88800" indent="-287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orwarding Control System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28728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High-speed &amp; Efficient Forwarding by Implementing Core 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287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outing Control System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287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fficient Distribution of Routing Tables by Centra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570640" y="4648320"/>
            <a:ext cx="830160" cy="585720"/>
            <a:chOff x="5570640" y="4648320"/>
            <a:chExt cx="830160" cy="585720"/>
          </a:xfrm>
        </p:grpSpPr>
        <p:sp>
          <p:nvSpPr>
            <p:cNvPr id="162" name=""/>
            <p:cNvSpPr/>
            <p:nvPr/>
          </p:nvSpPr>
          <p:spPr>
            <a:xfrm>
              <a:off x="5642280" y="4648320"/>
              <a:ext cx="560520" cy="557280"/>
            </a:xfrm>
            <a:prstGeom prst="rect">
              <a:avLst/>
            </a:prstGeom>
            <a:solidFill>
              <a:srgbClr val="a3f2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70640" y="4707720"/>
              <a:ext cx="83016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Cor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Transfer 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5133960" y="3962520"/>
            <a:ext cx="1419120" cy="685800"/>
          </a:xfrm>
          <a:prstGeom prst="wedgeRoundRectCallout">
            <a:avLst>
              <a:gd name="adj1" fmla="val -126620"/>
              <a:gd name="adj2" fmla="val 8773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Forwarding Labe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PN-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QoS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85960" y="351000"/>
            <a:ext cx="632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encapsulation for various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62280" y="3575160"/>
            <a:ext cx="3603600" cy="2520720"/>
          </a:xfrm>
          <a:prstGeom prst="roundRect">
            <a:avLst>
              <a:gd name="adj" fmla="val 12421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3446640"/>
            <a:ext cx="1603440" cy="304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95400" y="4255920"/>
            <a:ext cx="411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6480" y="4017960"/>
            <a:ext cx="1430280" cy="403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69880" y="4017960"/>
            <a:ext cx="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19040" y="4479840"/>
            <a:ext cx="8780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00960" y="4249800"/>
            <a:ext cx="40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38280" y="3952800"/>
            <a:ext cx="987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aa.bb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cc.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89160" y="425592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70560" y="4254480"/>
            <a:ext cx="40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18080" y="5229360"/>
            <a:ext cx="1630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ＭＳ ゴシック"/>
              </a:rPr>
              <a:t>Core 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1960" y="1143000"/>
            <a:ext cx="2209680" cy="1689120"/>
          </a:xfrm>
          <a:prstGeom prst="wedgeRoundRectCallout">
            <a:avLst>
              <a:gd name="adj1" fmla="val 37333"/>
              <a:gd name="adj2" fmla="val 126314"/>
              <a:gd name="adj3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4560" y="1808280"/>
            <a:ext cx="1436760" cy="37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76440" y="181296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04800" y="1801800"/>
            <a:ext cx="846360" cy="391320"/>
          </a:xfrm>
          <a:prstGeom prst="wedgeRoundRectCallout">
            <a:avLst>
              <a:gd name="adj1" fmla="val -43796"/>
              <a:gd name="adj2" fmla="val 84163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4160" y="2435400"/>
            <a:ext cx="1133640" cy="325800"/>
          </a:xfrm>
          <a:prstGeom prst="wedgeRoundRectCallout">
            <a:avLst>
              <a:gd name="adj1" fmla="val -43050"/>
              <a:gd name="adj2" fmla="val 111942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92480" y="21859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600" y="1143000"/>
            <a:ext cx="1537200" cy="358200"/>
          </a:xfrm>
          <a:prstGeom prst="wedgeRoundRectCallout">
            <a:avLst>
              <a:gd name="adj1" fmla="val -20620"/>
              <a:gd name="adj2" fmla="val 102680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ncaps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6600" y="1808280"/>
            <a:ext cx="430560" cy="3794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65320" y="1752480"/>
            <a:ext cx="804960" cy="463320"/>
          </a:xfrm>
          <a:prstGeom prst="wedgeRoundRectCallout">
            <a:avLst>
              <a:gd name="adj1" fmla="val -43833"/>
              <a:gd name="adj2" fmla="val 68446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xxx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yy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97120" y="3989520"/>
            <a:ext cx="1438560" cy="3794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30800" y="399420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89520" y="3989520"/>
            <a:ext cx="431640" cy="3794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81600" y="3909960"/>
            <a:ext cx="757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xxx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yy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404200" y="4255920"/>
            <a:ext cx="411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45280" y="4017960"/>
            <a:ext cx="1430280" cy="403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78680" y="4017960"/>
            <a:ext cx="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15400" y="3965400"/>
            <a:ext cx="987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aa.bb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cc.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27560" y="3914640"/>
            <a:ext cx="701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aa.b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cc.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30960" y="1143000"/>
            <a:ext cx="2209680" cy="1636560"/>
          </a:xfrm>
          <a:prstGeom prst="wedgeRoundRectCallout">
            <a:avLst>
              <a:gd name="adj1" fmla="val -40717"/>
              <a:gd name="adj2" fmla="val 124101"/>
              <a:gd name="adj3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51720" y="1808280"/>
            <a:ext cx="1436760" cy="37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83600" y="181296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1960" y="1801800"/>
            <a:ext cx="846360" cy="391320"/>
          </a:xfrm>
          <a:prstGeom prst="wedgeRoundRectCallout">
            <a:avLst>
              <a:gd name="adj1" fmla="val -43796"/>
              <a:gd name="adj2" fmla="val 84163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21040" y="2435400"/>
            <a:ext cx="1133640" cy="325800"/>
          </a:xfrm>
          <a:prstGeom prst="wedgeRoundRectCallout">
            <a:avLst>
              <a:gd name="adj1" fmla="val -42861"/>
              <a:gd name="adj2" fmla="val 111942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99280" y="21859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2880" y="1143000"/>
            <a:ext cx="1523520" cy="358200"/>
          </a:xfrm>
          <a:prstGeom prst="wedgeRoundRectCallout">
            <a:avLst>
              <a:gd name="adj1" fmla="val -56800"/>
              <a:gd name="adj2" fmla="val 102680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ecaps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43760" y="1808280"/>
            <a:ext cx="430200" cy="379440"/>
          </a:xfrm>
          <a:prstGeom prst="rect">
            <a:avLst/>
          </a:prstGeom>
          <a:solidFill>
            <a:srgbClr val="fafd00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81840" y="1790640"/>
            <a:ext cx="804960" cy="463320"/>
          </a:xfrm>
          <a:prstGeom prst="wedgeRoundRectCallout">
            <a:avLst>
              <a:gd name="adj1" fmla="val -43833"/>
              <a:gd name="adj2" fmla="val 684467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xxx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yy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32480" y="5334120"/>
            <a:ext cx="188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0800" y="5351400"/>
            <a:ext cx="188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5520" y="5064120"/>
            <a:ext cx="978120" cy="55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61240" y="4869000"/>
            <a:ext cx="901800" cy="939600"/>
          </a:xfrm>
          <a:custGeom>
            <a:avLst/>
            <a:gdLst>
              <a:gd name="textAreaLeft" fmla="*/ 32760 w 901800"/>
              <a:gd name="textAreaRight" fmla="*/ 869040 w 901800"/>
              <a:gd name="textAreaTop" fmla="*/ 32760 h 939600"/>
              <a:gd name="textAreaBottom" fmla="*/ 906840 h 939600"/>
            </a:gdLst>
            <a:ahLst/>
            <a:rect l="textAreaLeft" t="textAreaTop" r="textAreaRight" b="textAreaBottom"/>
            <a:pathLst>
              <a:path w="21600" h="22505">
                <a:moveTo>
                  <a:pt x="2681" y="0"/>
                </a:moveTo>
                <a:arcTo wR="2681" hR="2681" stAng="16200000" swAng="-5400000"/>
                <a:lnTo>
                  <a:pt x="0" y="19824"/>
                </a:lnTo>
                <a:arcTo wR="2681" hR="2681" stAng="10800000" swAng="-5400000"/>
                <a:lnTo>
                  <a:pt x="18919" y="22505"/>
                </a:lnTo>
                <a:arcTo wR="2681" hR="2681" stAng="5400000" swAng="-5400000"/>
                <a:lnTo>
                  <a:pt x="21600" y="2681"/>
                </a:lnTo>
                <a:arcTo wR="2681" hR="2681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98520" y="4869000"/>
            <a:ext cx="901800" cy="939600"/>
          </a:xfrm>
          <a:custGeom>
            <a:avLst/>
            <a:gdLst>
              <a:gd name="textAreaLeft" fmla="*/ 32760 w 901800"/>
              <a:gd name="textAreaRight" fmla="*/ 869040 w 901800"/>
              <a:gd name="textAreaTop" fmla="*/ 32760 h 939600"/>
              <a:gd name="textAreaBottom" fmla="*/ 906840 h 939600"/>
            </a:gdLst>
            <a:ahLst/>
            <a:rect l="textAreaLeft" t="textAreaTop" r="textAreaRight" b="textAreaBottom"/>
            <a:pathLst>
              <a:path w="21600" h="22505">
                <a:moveTo>
                  <a:pt x="2681" y="0"/>
                </a:moveTo>
                <a:arcTo wR="2681" hR="2681" stAng="16200000" swAng="-5400000"/>
                <a:lnTo>
                  <a:pt x="0" y="19824"/>
                </a:lnTo>
                <a:arcTo wR="2681" hR="2681" stAng="10800000" swAng="-5400000"/>
                <a:lnTo>
                  <a:pt x="18919" y="22505"/>
                </a:lnTo>
                <a:arcTo wR="2681" hR="2681" stAng="5400000" swAng="-5400000"/>
                <a:lnTo>
                  <a:pt x="21600" y="2681"/>
                </a:lnTo>
                <a:arcTo wR="2681" hR="2681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5029200"/>
            <a:ext cx="91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ccess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16840" y="5108400"/>
            <a:ext cx="979560" cy="555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22880" y="4017960"/>
            <a:ext cx="623880" cy="1963800"/>
          </a:xfrm>
          <a:prstGeom prst="rect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06520" y="4094280"/>
            <a:ext cx="665280" cy="1919160"/>
          </a:xfrm>
          <a:prstGeom prst="rect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4648320"/>
            <a:ext cx="5857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g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1295280"/>
            <a:ext cx="3076560" cy="182736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Layer as an intermediate layer between IP and ATM en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1)various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2)multiprotocol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1523880"/>
            <a:ext cx="99036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1676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523880"/>
            <a:ext cx="83844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P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1523880"/>
            <a:ext cx="9907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1523880"/>
            <a:ext cx="83808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P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08760" y="4495680"/>
            <a:ext cx="8780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95960" y="4606920"/>
            <a:ext cx="5857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g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9440" y="5029200"/>
            <a:ext cx="91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ccess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92400" y="4648320"/>
            <a:ext cx="1523880" cy="1242720"/>
          </a:xfrm>
          <a:prstGeom prst="wedgeRoundRectCallout">
            <a:avLst>
              <a:gd name="adj1" fmla="val 85106"/>
              <a:gd name="adj2" fmla="val -71074"/>
              <a:gd name="adj3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5048280"/>
            <a:ext cx="839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Us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1840" y="5105520"/>
            <a:ext cx="839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Us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26400" y="4749840"/>
            <a:ext cx="952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39200" y="5035680"/>
            <a:ext cx="1452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Forwarding Lab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PN-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QoS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057400" y="152280"/>
            <a:ext cx="5029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33012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Encapsulation and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52760" y="1676520"/>
            <a:ext cx="35686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56080" y="1751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11280" y="4699080"/>
            <a:ext cx="838080" cy="609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49360" y="4699080"/>
            <a:ext cx="1526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06560" y="4699080"/>
            <a:ext cx="838440" cy="609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45000" y="4699080"/>
            <a:ext cx="15228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02200" y="4699080"/>
            <a:ext cx="838080" cy="609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40280" y="4699080"/>
            <a:ext cx="15228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97480" y="4699080"/>
            <a:ext cx="838080" cy="609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35560" y="4699080"/>
            <a:ext cx="1526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11280" y="4699080"/>
            <a:ext cx="266760" cy="609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38360" y="46990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400000">
            <a:off x="1195920" y="4809240"/>
            <a:ext cx="914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L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C-3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80160" y="4699080"/>
            <a:ext cx="838080" cy="609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18240" y="4699080"/>
            <a:ext cx="15264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08760" y="46990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289640" y="46990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rot="5400000">
            <a:off x="6631560" y="4821840"/>
            <a:ext cx="914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LLC/SN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12800" y="4424760"/>
            <a:ext cx="8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st 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15280" y="4278600"/>
            <a:ext cx="1269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st c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Core ce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511280" y="5409720"/>
            <a:ext cx="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670880" y="5409720"/>
            <a:ext cx="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52760" y="3174840"/>
            <a:ext cx="3568680" cy="609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325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1280" y="5511960"/>
            <a:ext cx="6147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20960" y="5409000"/>
            <a:ext cx="1613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AL5-CPCS 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21440" y="3174840"/>
            <a:ext cx="571320" cy="609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70680" y="3260880"/>
            <a:ext cx="711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re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13400" y="3797280"/>
            <a:ext cx="381240" cy="4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5500200">
            <a:off x="4215960" y="2438280"/>
            <a:ext cx="317520" cy="546120"/>
          </a:xfrm>
          <a:custGeom>
            <a:avLst/>
            <a:gdLst>
              <a:gd name="textAreaLeft" fmla="*/ 49320 w 317520"/>
              <a:gd name="textAreaRight" fmla="*/ 277920 w 317520"/>
              <a:gd name="textAreaTop" fmla="*/ 136440 h 546120"/>
              <a:gd name="textAreaBottom" fmla="*/ 409680 h 546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500200">
            <a:off x="4495320" y="3924000"/>
            <a:ext cx="317520" cy="546120"/>
          </a:xfrm>
          <a:custGeom>
            <a:avLst/>
            <a:gdLst>
              <a:gd name="textAreaLeft" fmla="*/ 49320 w 317520"/>
              <a:gd name="textAreaRight" fmla="*/ 277920 w 317520"/>
              <a:gd name="textAreaTop" fmla="*/ 136440 h 546120"/>
              <a:gd name="textAreaBottom" fmla="*/ 409680 h 546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85000" y="5003640"/>
            <a:ext cx="965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94560" y="5078880"/>
            <a:ext cx="1270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ell sending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3640" y="17262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63640" y="3211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6000" y="4677120"/>
            <a:ext cx="1218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L5/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4736160"/>
            <a:ext cx="2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971720" y="4349880"/>
            <a:ext cx="762120" cy="4064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94080" y="4349880"/>
            <a:ext cx="762120" cy="4064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94360" y="4349880"/>
            <a:ext cx="761760" cy="4064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62720" y="4349880"/>
            <a:ext cx="776160" cy="412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4905360"/>
            <a:ext cx="1143000" cy="37800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5283360"/>
            <a:ext cx="609480" cy="417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5283360"/>
            <a:ext cx="1143000" cy="417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53080" y="5283360"/>
            <a:ext cx="609840" cy="417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5283360"/>
            <a:ext cx="1143000" cy="417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57400" y="53593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318280"/>
            <a:ext cx="762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53080" y="5365800"/>
            <a:ext cx="762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5349960"/>
            <a:ext cx="76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4902120"/>
            <a:ext cx="1143000" cy="38124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57400" y="4902120"/>
            <a:ext cx="6094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92240" y="4349880"/>
            <a:ext cx="9144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TDP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Ｎａｖ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4902120"/>
            <a:ext cx="60984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98920" y="4905360"/>
            <a:ext cx="515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09680" y="4921200"/>
            <a:ext cx="45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89480" y="4905360"/>
            <a:ext cx="501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4921200"/>
            <a:ext cx="533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7400" y="152280"/>
            <a:ext cx="5029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17720" y="33012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packet forw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4944960"/>
            <a:ext cx="914400" cy="185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0120" y="487152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3886200"/>
            <a:ext cx="3352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19191"/>
                </a:solidFill>
                <a:latin typeface="Times New Roman"/>
              </a:rPr>
              <a:t>・</a:t>
            </a:r>
            <a:r>
              <a:rPr b="1" lang="en-US" sz="2000" spc="-1" strike="noStrike">
                <a:solidFill>
                  <a:srgbClr val="919191"/>
                </a:solidFill>
                <a:latin typeface="Times New Roman"/>
              </a:rPr>
              <a:t>IP Navigator/Tag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50547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91520" y="4944960"/>
            <a:ext cx="914400" cy="185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38880" y="487152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81880" y="505476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5054760"/>
            <a:ext cx="5105520" cy="833400"/>
          </a:xfrm>
          <a:custGeom>
            <a:avLst/>
            <a:gdLst/>
            <a:ahLst/>
            <a:rect l="l" t="t" r="r" b="b"/>
            <a:pathLst>
              <a:path w="3216" h="624">
                <a:moveTo>
                  <a:pt x="0" y="0"/>
                </a:moveTo>
                <a:lnTo>
                  <a:pt x="288" y="0"/>
                </a:lnTo>
                <a:lnTo>
                  <a:pt x="288" y="624"/>
                </a:lnTo>
                <a:lnTo>
                  <a:pt x="864" y="624"/>
                </a:lnTo>
                <a:lnTo>
                  <a:pt x="864" y="336"/>
                </a:lnTo>
                <a:lnTo>
                  <a:pt x="1296" y="336"/>
                </a:lnTo>
                <a:lnTo>
                  <a:pt x="1296" y="624"/>
                </a:lnTo>
                <a:lnTo>
                  <a:pt x="1920" y="624"/>
                </a:lnTo>
                <a:lnTo>
                  <a:pt x="1920" y="336"/>
                </a:lnTo>
                <a:lnTo>
                  <a:pt x="2352" y="336"/>
                </a:lnTo>
                <a:lnTo>
                  <a:pt x="2352" y="624"/>
                </a:lnTo>
                <a:lnTo>
                  <a:pt x="2928" y="624"/>
                </a:lnTo>
                <a:lnTo>
                  <a:pt x="2928" y="0"/>
                </a:lnTo>
                <a:lnTo>
                  <a:pt x="3216" y="0"/>
                </a:ln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5969160"/>
            <a:ext cx="45720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5969160"/>
            <a:ext cx="1526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6078960"/>
            <a:ext cx="103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M 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5969160"/>
            <a:ext cx="45720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5969160"/>
            <a:ext cx="15228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38840" y="6069600"/>
            <a:ext cx="92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M 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969160"/>
            <a:ext cx="45720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5969160"/>
            <a:ext cx="15228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6078960"/>
            <a:ext cx="9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M 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5760" y="6251760"/>
            <a:ext cx="251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bel for transferring (VPI/VC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6121440"/>
            <a:ext cx="3812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647960" y="61214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876560" y="612144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1520" y="476244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68760" y="4756320"/>
            <a:ext cx="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65600" y="475632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59080" y="4756320"/>
            <a:ext cx="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08480" y="4343400"/>
            <a:ext cx="9144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TDP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Ｎａｖ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22800" y="4343400"/>
            <a:ext cx="9144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TDP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Ｎａｖ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86480" y="4343400"/>
            <a:ext cx="9144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TDP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Ｎａｖ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1566720"/>
            <a:ext cx="609480" cy="1143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57400" y="2328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00400" y="1947960"/>
            <a:ext cx="1143000" cy="7617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1566720"/>
            <a:ext cx="609840" cy="1143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53080" y="2328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1947960"/>
            <a:ext cx="1143000" cy="7617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9479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19479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1719360"/>
            <a:ext cx="914400" cy="185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0120" y="164268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1828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91520" y="1685880"/>
            <a:ext cx="914400" cy="185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38880" y="16124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1880" y="17953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3288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76920" y="23288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990720"/>
            <a:ext cx="1523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19191"/>
                </a:solidFill>
                <a:latin typeface="Times New Roman"/>
              </a:rPr>
              <a:t>・</a:t>
            </a:r>
            <a:r>
              <a:rPr b="1" lang="en-US" sz="2000" spc="-1" strike="noStrike">
                <a:solidFill>
                  <a:srgbClr val="919191"/>
                </a:solidFill>
                <a:latin typeface="Times New Roman"/>
              </a:rPr>
              <a:t>GMN‐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57400" y="1795320"/>
            <a:ext cx="5105520" cy="1143000"/>
          </a:xfrm>
          <a:custGeom>
            <a:avLst/>
            <a:gdLst/>
            <a:ahLst/>
            <a:rect l="l" t="t" r="r" b="b"/>
            <a:pathLst>
              <a:path w="3216" h="672">
                <a:moveTo>
                  <a:pt x="0" y="0"/>
                </a:moveTo>
                <a:lnTo>
                  <a:pt x="288" y="0"/>
                </a:lnTo>
                <a:lnTo>
                  <a:pt x="288" y="672"/>
                </a:lnTo>
                <a:lnTo>
                  <a:pt x="816" y="672"/>
                </a:lnTo>
                <a:lnTo>
                  <a:pt x="864" y="672"/>
                </a:lnTo>
                <a:lnTo>
                  <a:pt x="864" y="240"/>
                </a:lnTo>
                <a:lnTo>
                  <a:pt x="1296" y="240"/>
                </a:lnTo>
                <a:lnTo>
                  <a:pt x="1296" y="672"/>
                </a:lnTo>
                <a:lnTo>
                  <a:pt x="1920" y="672"/>
                </a:lnTo>
                <a:lnTo>
                  <a:pt x="1920" y="240"/>
                </a:lnTo>
                <a:lnTo>
                  <a:pt x="2352" y="240"/>
                </a:lnTo>
                <a:lnTo>
                  <a:pt x="2352" y="672"/>
                </a:lnTo>
                <a:lnTo>
                  <a:pt x="2928" y="672"/>
                </a:lnTo>
                <a:lnTo>
                  <a:pt x="2928" y="0"/>
                </a:lnTo>
                <a:lnTo>
                  <a:pt x="3216" y="0"/>
                </a:ln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09680" y="1566720"/>
            <a:ext cx="45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05720" y="1566720"/>
            <a:ext cx="45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232884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2328840"/>
            <a:ext cx="762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553080" y="232884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05520" y="2328840"/>
            <a:ext cx="76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81080" y="1947960"/>
            <a:ext cx="838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77120" y="1947960"/>
            <a:ext cx="838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1947960"/>
            <a:ext cx="91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1947960"/>
            <a:ext cx="838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1623960"/>
            <a:ext cx="99036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1623960"/>
            <a:ext cx="228600" cy="152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91120" y="1715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154764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255744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05520" y="255744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809880" y="2557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36800" y="2983320"/>
            <a:ext cx="1817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eding cells other than the first 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2557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75240" y="1267920"/>
            <a:ext cx="325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bel for transferring (Core addr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83160" y="2981520"/>
            <a:ext cx="1817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cceeding cells other than the first 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657600" y="4419720"/>
            <a:ext cx="4219560" cy="1981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057640"/>
            <a:ext cx="2667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TM connection setup between edge nodes befor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0680" y="4191120"/>
            <a:ext cx="2522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f. Connection Ori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7040" y="4191120"/>
            <a:ext cx="2028960" cy="6602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46640" y="5257800"/>
            <a:ext cx="421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24360" y="5410080"/>
            <a:ext cx="42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5257800"/>
            <a:ext cx="4208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55680" y="5259240"/>
            <a:ext cx="6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TM 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20640" y="5640480"/>
            <a:ext cx="6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TM 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994280" y="4952520"/>
            <a:ext cx="422280" cy="305280"/>
            <a:chOff x="4994280" y="4952520"/>
            <a:chExt cx="422280" cy="305280"/>
          </a:xfrm>
        </p:grpSpPr>
        <p:sp>
          <p:nvSpPr>
            <p:cNvPr id="369" name=""/>
            <p:cNvSpPr/>
            <p:nvPr/>
          </p:nvSpPr>
          <p:spPr>
            <a:xfrm>
              <a:off x="4994280" y="4952880"/>
              <a:ext cx="42228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94280" y="4952880"/>
              <a:ext cx="4222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994280" y="4952520"/>
              <a:ext cx="4222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159600" y="5334120"/>
            <a:ext cx="422280" cy="304560"/>
            <a:chOff x="6159600" y="5334120"/>
            <a:chExt cx="422280" cy="304560"/>
          </a:xfrm>
        </p:grpSpPr>
        <p:sp>
          <p:nvSpPr>
            <p:cNvPr id="373" name=""/>
            <p:cNvSpPr/>
            <p:nvPr/>
          </p:nvSpPr>
          <p:spPr>
            <a:xfrm>
              <a:off x="6159600" y="5334120"/>
              <a:ext cx="42228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59600" y="5334120"/>
              <a:ext cx="422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159600" y="5334120"/>
              <a:ext cx="422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 flipV="1">
            <a:off x="3938760" y="5028840"/>
            <a:ext cx="985680" cy="304920"/>
          </a:xfrm>
          <a:prstGeom prst="line">
            <a:avLst/>
          </a:prstGeom>
          <a:ln w="3816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86400" y="5029200"/>
            <a:ext cx="633240" cy="304920"/>
          </a:xfrm>
          <a:prstGeom prst="line">
            <a:avLst/>
          </a:prstGeom>
          <a:ln w="3816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611760" y="5333760"/>
            <a:ext cx="984600" cy="75960"/>
          </a:xfrm>
          <a:prstGeom prst="line">
            <a:avLst/>
          </a:prstGeom>
          <a:ln w="3816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868560" y="5181120"/>
            <a:ext cx="3798720" cy="381240"/>
            <a:chOff x="3868560" y="5181120"/>
            <a:chExt cx="3798720" cy="381240"/>
          </a:xfrm>
        </p:grpSpPr>
        <p:sp>
          <p:nvSpPr>
            <p:cNvPr id="380" name=""/>
            <p:cNvSpPr/>
            <p:nvPr/>
          </p:nvSpPr>
          <p:spPr>
            <a:xfrm flipV="1">
              <a:off x="3868560" y="5181120"/>
              <a:ext cx="133668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05240" y="5181480"/>
              <a:ext cx="119556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01160" y="5486040"/>
              <a:ext cx="126612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863520" y="48718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ignall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088480" y="5410080"/>
            <a:ext cx="42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36480" y="638316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276120"/>
            <a:ext cx="7467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M Connection Mode between Edge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2301840"/>
            <a:ext cx="2725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o ATM connection setup between edge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7960" y="1587600"/>
            <a:ext cx="302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GMN-CL: Connection 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6240" y="1523880"/>
            <a:ext cx="2877840" cy="52092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657600" y="1676520"/>
            <a:ext cx="4219560" cy="1981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17760" y="2057400"/>
            <a:ext cx="492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g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24280" y="1708200"/>
            <a:ext cx="1067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ransf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46640" y="2514600"/>
            <a:ext cx="421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24360" y="2666880"/>
            <a:ext cx="42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2514600"/>
            <a:ext cx="4208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868560" y="2362320"/>
            <a:ext cx="112572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6560" y="2362320"/>
            <a:ext cx="77328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541920" y="2666880"/>
            <a:ext cx="11257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94280" y="2209680"/>
            <a:ext cx="4222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59600" y="2590920"/>
            <a:ext cx="4222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088480" y="2666880"/>
            <a:ext cx="42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36480" y="363996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r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37560" y="291132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ocal 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erminated at Transfer nod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2089080"/>
            <a:ext cx="1067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ransf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13800" y="2057400"/>
            <a:ext cx="492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g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4800600"/>
            <a:ext cx="492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g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59200" y="4451400"/>
            <a:ext cx="1067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ransf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02200" y="4832280"/>
            <a:ext cx="1067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ransf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848720" y="4800600"/>
            <a:ext cx="492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g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05080" y="586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irect VC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600200" y="3973680"/>
            <a:ext cx="6019920" cy="9903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57400" y="152280"/>
            <a:ext cx="5029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3592440"/>
            <a:ext cx="609480" cy="1143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57400" y="43545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00400" y="3973680"/>
            <a:ext cx="1143000" cy="7617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53080" y="3592440"/>
            <a:ext cx="609840" cy="1143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53080" y="43545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6920" y="3973680"/>
            <a:ext cx="1143000" cy="7617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57400" y="3973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553080" y="3973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00400" y="435456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435456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3592440"/>
            <a:ext cx="482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354560"/>
            <a:ext cx="73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05520" y="4354560"/>
            <a:ext cx="73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23880" y="1905120"/>
            <a:ext cx="6096240" cy="9903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81680" y="2438280"/>
            <a:ext cx="1524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ing Control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4120" y="2206800"/>
            <a:ext cx="609480" cy="380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2206800"/>
            <a:ext cx="45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00400" y="2206800"/>
            <a:ext cx="609480" cy="380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2206800"/>
            <a:ext cx="533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09880" y="2511360"/>
            <a:ext cx="1524240" cy="228600"/>
          </a:xfrm>
          <a:custGeom>
            <a:avLst/>
            <a:gdLst/>
            <a:ahLst/>
            <a:rect l="l" t="t" r="r" b="b"/>
            <a:pathLst>
              <a:path w="1152" h="192">
                <a:moveTo>
                  <a:pt x="0" y="0"/>
                </a:moveTo>
                <a:cubicBezTo>
                  <a:pt x="48" y="56"/>
                  <a:pt x="96" y="112"/>
                  <a:pt x="192" y="144"/>
                </a:cubicBezTo>
                <a:cubicBezTo>
                  <a:pt x="288" y="176"/>
                  <a:pt x="456" y="192"/>
                  <a:pt x="576" y="192"/>
                </a:cubicBezTo>
                <a:cubicBezTo>
                  <a:pt x="696" y="192"/>
                  <a:pt x="816" y="176"/>
                  <a:pt x="912" y="144"/>
                </a:cubicBezTo>
                <a:cubicBezTo>
                  <a:pt x="1008" y="112"/>
                  <a:pt x="1080" y="56"/>
                  <a:pt x="1152" y="0"/>
                </a:cubicBezTo>
              </a:path>
            </a:pathLst>
          </a:custGeom>
          <a:noFill/>
          <a:ln cap="rnd" w="38160">
            <a:solidFill>
              <a:srgbClr val="ff00ff"/>
            </a:solidFill>
            <a:custDash>
              <a:ds d="100000" sp="1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743200" y="2602080"/>
            <a:ext cx="2743200" cy="1218960"/>
          </a:xfrm>
          <a:prstGeom prst="line">
            <a:avLst/>
          </a:prstGeom>
          <a:ln cap="rnd" w="38160">
            <a:solidFill>
              <a:srgbClr val="ff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2602080"/>
            <a:ext cx="838080" cy="1218960"/>
          </a:xfrm>
          <a:prstGeom prst="line">
            <a:avLst/>
          </a:prstGeom>
          <a:ln cap="rnd" w="38160">
            <a:solidFill>
              <a:srgbClr val="ff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19920" y="2602080"/>
            <a:ext cx="1143000" cy="2438280"/>
          </a:xfrm>
          <a:custGeom>
            <a:avLst/>
            <a:gdLst/>
            <a:ahLst/>
            <a:rect l="l" t="t" r="r" b="b"/>
            <a:pathLst>
              <a:path w="768" h="1392">
                <a:moveTo>
                  <a:pt x="768" y="720"/>
                </a:moveTo>
                <a:lnTo>
                  <a:pt x="672" y="720"/>
                </a:lnTo>
                <a:lnTo>
                  <a:pt x="672" y="1392"/>
                </a:lnTo>
                <a:lnTo>
                  <a:pt x="240" y="1392"/>
                </a:ln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772400" y="3821040"/>
            <a:ext cx="914400" cy="185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15200" y="38973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3787920"/>
            <a:ext cx="914400" cy="185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0120" y="3942000"/>
            <a:ext cx="127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ing Control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389736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57400" y="2678040"/>
            <a:ext cx="4114800" cy="2362320"/>
          </a:xfrm>
          <a:custGeom>
            <a:avLst/>
            <a:gdLst/>
            <a:ahLst/>
            <a:rect l="l" t="t" r="r" b="b"/>
            <a:pathLst>
              <a:path w="2592" h="1344">
                <a:moveTo>
                  <a:pt x="0" y="624"/>
                </a:moveTo>
                <a:lnTo>
                  <a:pt x="96" y="624"/>
                </a:lnTo>
                <a:lnTo>
                  <a:pt x="96" y="1344"/>
                </a:lnTo>
                <a:lnTo>
                  <a:pt x="864" y="1344"/>
                </a:lnTo>
                <a:lnTo>
                  <a:pt x="864" y="864"/>
                </a:lnTo>
                <a:lnTo>
                  <a:pt x="1296" y="864"/>
                </a:lnTo>
                <a:lnTo>
                  <a:pt x="1296" y="1344"/>
                </a:lnTo>
                <a:lnTo>
                  <a:pt x="1920" y="1344"/>
                </a:lnTo>
                <a:lnTo>
                  <a:pt x="1920" y="864"/>
                </a:lnTo>
                <a:lnTo>
                  <a:pt x="2400" y="864"/>
                </a:lnTo>
                <a:lnTo>
                  <a:pt x="2400" y="1344"/>
                </a:lnTo>
                <a:lnTo>
                  <a:pt x="2592" y="1344"/>
                </a:lnTo>
                <a:lnTo>
                  <a:pt x="2592" y="48"/>
                </a:lnTo>
                <a:lnTo>
                  <a:pt x="2448" y="0"/>
                </a:ln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30120"/>
            <a:ext cx="640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 Distribution of GMN-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192640"/>
            <a:ext cx="76212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dge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29200" y="1751400"/>
            <a:ext cx="1270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 Calc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5192640"/>
            <a:ext cx="1600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e Transfer Nod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4280" y="5192640"/>
            <a:ext cx="1600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e Transfer Nod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267804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" y="2241720"/>
            <a:ext cx="198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-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ress resolutio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4572000"/>
            <a:ext cx="17528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5195880"/>
            <a:ext cx="76212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dge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8480" y="2057400"/>
            <a:ext cx="137160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Label and FEC binding in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-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2602080"/>
            <a:ext cx="1066680" cy="2361960"/>
          </a:xfrm>
          <a:custGeom>
            <a:avLst/>
            <a:gdLst/>
            <a:ahLst/>
            <a:rect l="l" t="t" r="r" b="b"/>
            <a:pathLst>
              <a:path w="672" h="1488">
                <a:moveTo>
                  <a:pt x="672" y="0"/>
                </a:moveTo>
                <a:lnTo>
                  <a:pt x="672" y="1488"/>
                </a:lnTo>
                <a:lnTo>
                  <a:pt x="0" y="1488"/>
                </a:lnTo>
                <a:lnTo>
                  <a:pt x="0" y="720"/>
                </a:ln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67480" y="1523880"/>
            <a:ext cx="609840" cy="3812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18763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943240" y="1752480"/>
            <a:ext cx="1523880" cy="609840"/>
          </a:xfrm>
          <a:prstGeom prst="line">
            <a:avLst/>
          </a:prstGeom>
          <a:ln cap="rnd" w="38160">
            <a:solidFill>
              <a:srgbClr val="ff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45320" y="3961080"/>
            <a:ext cx="127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ing Control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09680" y="3592440"/>
            <a:ext cx="52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57400" y="4354560"/>
            <a:ext cx="723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4354560"/>
            <a:ext cx="723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3973680"/>
            <a:ext cx="85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477120" y="3973680"/>
            <a:ext cx="85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52680" y="3973680"/>
            <a:ext cx="838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05520" y="3973680"/>
            <a:ext cx="838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286000" y="2147760"/>
            <a:ext cx="4648320" cy="1752840"/>
          </a:xfrm>
          <a:prstGeom prst="roundRect">
            <a:avLst>
              <a:gd name="adj" fmla="val 12421"/>
            </a:avLst>
          </a:prstGeom>
          <a:solidFill>
            <a:srgbClr val="ff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59120" y="379440"/>
            <a:ext cx="600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183400"/>
                </a:solidFill>
                <a:latin typeface="Times New Roman"/>
                <a:ea typeface="ＭＳ ゴシック"/>
              </a:rPr>
              <a:t>VP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identification of GMN-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3520" y="2224080"/>
            <a:ext cx="1184400" cy="6714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2880" y="2362320"/>
            <a:ext cx="117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8120" y="2938320"/>
            <a:ext cx="40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64320" y="2936880"/>
            <a:ext cx="40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38480" y="2195640"/>
            <a:ext cx="7221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ge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35080" y="2664000"/>
            <a:ext cx="493920" cy="53316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8520" y="2209680"/>
            <a:ext cx="7794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ge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670800" y="2664000"/>
            <a:ext cx="492120" cy="53316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2182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N identifier is encapsulated into Core header of each frame in Core Netwo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 node recognizes correspondence between VPN identifier and access li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38480" y="3494160"/>
            <a:ext cx="1617840" cy="330120"/>
          </a:xfrm>
          <a:prstGeom prst="wedgeRectCallout">
            <a:avLst>
              <a:gd name="adj1" fmla="val 15759"/>
              <a:gd name="adj2" fmla="val -19375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037040" y="3476520"/>
            <a:ext cx="1670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PN 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2757600"/>
            <a:ext cx="9903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52880" y="2757600"/>
            <a:ext cx="228600" cy="304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47920" y="260496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7162920" y="25290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4281480"/>
            <a:ext cx="3429000" cy="2057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4920" y="4497480"/>
            <a:ext cx="58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4560" y="4986360"/>
            <a:ext cx="57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02560" y="450684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P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18040" y="496728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P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12840" y="46274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12840" y="50878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32040" y="46274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32040" y="5087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2440" y="5548320"/>
            <a:ext cx="1598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ge node identifies VPN by link, and judges capacity of data transfer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63520" y="3076560"/>
            <a:ext cx="1184400" cy="67140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2880" y="3198960"/>
            <a:ext cx="117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1447920" y="2986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3680" y="2452680"/>
            <a:ext cx="65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52640" y="5548320"/>
            <a:ext cx="167652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ge node gets the address of destination edge node by looking up table for the VPN,  adds VPN id., and transmits pac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76520" y="4411800"/>
            <a:ext cx="11430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ress of destination edg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1143000" y="5195520"/>
            <a:ext cx="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438280" y="5195520"/>
            <a:ext cx="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94200" y="2909880"/>
            <a:ext cx="64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731000" y="2224080"/>
            <a:ext cx="1184400" cy="6714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740720" y="2346480"/>
            <a:ext cx="117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31000" y="3076560"/>
            <a:ext cx="1184400" cy="67140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740720" y="3198960"/>
            <a:ext cx="117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62920" y="298620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067160" y="2414520"/>
            <a:ext cx="68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340400" y="2948040"/>
            <a:ext cx="68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00800" y="4281480"/>
            <a:ext cx="2514600" cy="2057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966440" y="458316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966440" y="496080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753960" y="46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P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55400" y="496728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P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24720" y="4738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24720" y="5087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64320" y="5576760"/>
            <a:ext cx="213372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ge node identifies VPN by VPN id.,  identifies an egress link by a table,  and transmits packe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7696080" y="51958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59560" y="2389320"/>
            <a:ext cx="150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e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523880" y="3214800"/>
            <a:ext cx="609840" cy="106668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384" y="0"/>
                </a:lnTo>
                <a:lnTo>
                  <a:pt x="336" y="672"/>
                </a:lnTo>
                <a:lnTo>
                  <a:pt x="0" y="672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7085880" y="3214800"/>
            <a:ext cx="609480" cy="106668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384" y="0"/>
                </a:lnTo>
                <a:lnTo>
                  <a:pt x="336" y="672"/>
                </a:lnTo>
                <a:lnTo>
                  <a:pt x="0" y="672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4800600" y="374796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33920" y="4357800"/>
            <a:ext cx="271440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d is not read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M 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d is added at up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yer than ATM in ingr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ge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3123360" y="1905120"/>
            <a:ext cx="29718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73280" y="4897440"/>
            <a:ext cx="11430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ress of destination edg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6T20:05:25Z</dcterms:created>
  <dc:creator>Yuichi Ehara</dc:creator>
  <dc:description/>
  <dc:language>en-US</dc:language>
  <cp:lastModifiedBy>Naohide NAGATSU</cp:lastModifiedBy>
  <cp:lastPrinted>1999-06-22T12:28:48Z</cp:lastPrinted>
  <dcterms:modified xsi:type="dcterms:W3CDTF">2000-04-18T00:25:33Z</dcterms:modified>
  <cp:revision>367</cp:revision>
  <dc:subject/>
  <dc:title>ｽﾗｲﾄﾞ ﾀｲﾄﾙなし</dc:title>
</cp:coreProperties>
</file>