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DBB-12AB-431F-BF3B-8D1AAA95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56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4C7-C349-489C-A48A-6FAE9A3A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888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5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888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02F-40CB-4AA2-ACC4-3D8CF113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372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3988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5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372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3988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3BE-A64F-4846-99A5-8878E705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56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D49-14B2-401A-B2CE-00D966A2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802-51B6-41C1-A66B-098ECFDE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888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E9D-3F75-4741-AF88-0797B022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038-9838-48D5-A137-FE4646B8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369-1351-447E-AFE9-853688B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888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5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724-40DB-4C11-9649-D64EC264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888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888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189-40F3-4C64-8412-24EB53E1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888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56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91B-0CF2-4048-8289-4DCC5BE2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22440" y="6210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3D8F-13C7-47AA-B037-78FC7829C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41653" t="18645" r="0" b="0"/>
          <a:stretch/>
        </p:blipFill>
        <p:spPr>
          <a:xfrm>
            <a:off x="0" y="0"/>
            <a:ext cx="2395440" cy="3429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400800" y="5740560"/>
            <a:ext cx="2516040" cy="922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60240" y="901800"/>
            <a:ext cx="731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23760" y="1330200"/>
          <a:ext cx="7317000" cy="50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330200"/>
                    <a:ext cx="731700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282-4BCC-4083-BDCB-8263926019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ing Configuration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502320" y="1943280"/>
            <a:ext cx="1587600" cy="393480"/>
            <a:chOff x="6502320" y="1943280"/>
            <a:chExt cx="1587600" cy="393480"/>
          </a:xfrm>
        </p:grpSpPr>
        <p:sp>
          <p:nvSpPr>
            <p:cNvPr id="428" name=""/>
            <p:cNvSpPr/>
            <p:nvPr/>
          </p:nvSpPr>
          <p:spPr>
            <a:xfrm flipV="1">
              <a:off x="6527880" y="195588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02320" y="1943280"/>
              <a:ext cx="15876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89920" y="19432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494400" y="142416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ut-of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108840" y="2311560"/>
            <a:ext cx="1460160" cy="790560"/>
            <a:chOff x="6108840" y="2311560"/>
            <a:chExt cx="1460160" cy="790560"/>
          </a:xfrm>
        </p:grpSpPr>
        <p:sp>
          <p:nvSpPr>
            <p:cNvPr id="433" name=""/>
            <p:cNvSpPr/>
            <p:nvPr/>
          </p:nvSpPr>
          <p:spPr>
            <a:xfrm flipH="1">
              <a:off x="6108840" y="234936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195240" y="239544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489720" y="23954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489720" y="24829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489720" y="25653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6489720" y="26496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489720" y="27399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489720" y="28224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583320" y="2417760"/>
              <a:ext cx="985680" cy="603360"/>
              <a:chOff x="6583320" y="2417760"/>
              <a:chExt cx="985680" cy="603360"/>
            </a:xfrm>
          </p:grpSpPr>
          <p:sp>
            <p:nvSpPr>
              <p:cNvPr id="442" name=""/>
              <p:cNvSpPr/>
              <p:nvPr/>
            </p:nvSpPr>
            <p:spPr>
              <a:xfrm flipH="1">
                <a:off x="6583320" y="241776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6583320" y="2619360"/>
                <a:ext cx="985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583320" y="2816280"/>
                <a:ext cx="97200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583320" y="302112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589800" y="2311560"/>
              <a:ext cx="492120" cy="790560"/>
              <a:chOff x="6589800" y="2311560"/>
              <a:chExt cx="492120" cy="790560"/>
            </a:xfrm>
          </p:grpSpPr>
          <p:sp>
            <p:nvSpPr>
              <p:cNvPr id="447" name=""/>
              <p:cNvSpPr/>
              <p:nvPr/>
            </p:nvSpPr>
            <p:spPr>
              <a:xfrm>
                <a:off x="6589800" y="23115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589800" y="25272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589800" y="27432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589800" y="29336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534240" y="2324160"/>
            <a:ext cx="1459800" cy="790560"/>
            <a:chOff x="534240" y="2324160"/>
            <a:chExt cx="1459800" cy="790560"/>
          </a:xfrm>
        </p:grpSpPr>
        <p:sp>
          <p:nvSpPr>
            <p:cNvPr id="452" name=""/>
            <p:cNvSpPr/>
            <p:nvPr/>
          </p:nvSpPr>
          <p:spPr>
            <a:xfrm>
              <a:off x="1519200" y="2336760"/>
              <a:ext cx="47484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77960" y="238284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49440" y="23828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440" y="24703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49440" y="25527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49440" y="26370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49440" y="27273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49440" y="28098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534240" y="2405160"/>
              <a:ext cx="985320" cy="603360"/>
              <a:chOff x="534240" y="2405160"/>
              <a:chExt cx="985320" cy="603360"/>
            </a:xfrm>
          </p:grpSpPr>
          <p:sp>
            <p:nvSpPr>
              <p:cNvPr id="461" name=""/>
              <p:cNvSpPr/>
              <p:nvPr/>
            </p:nvSpPr>
            <p:spPr>
              <a:xfrm>
                <a:off x="547920" y="240516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34240" y="2606760"/>
                <a:ext cx="985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47920" y="2803680"/>
                <a:ext cx="97164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47920" y="300852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052640" y="2324160"/>
              <a:ext cx="492120" cy="790560"/>
              <a:chOff x="1052640" y="2324160"/>
              <a:chExt cx="492120" cy="790560"/>
            </a:xfrm>
          </p:grpSpPr>
          <p:sp>
            <p:nvSpPr>
              <p:cNvPr id="466" name=""/>
              <p:cNvSpPr/>
              <p:nvPr/>
            </p:nvSpPr>
            <p:spPr>
              <a:xfrm>
                <a:off x="1052640" y="23241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052640" y="25398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052640" y="27558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052640" y="29462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 flipV="1">
            <a:off x="1371600" y="3746160"/>
            <a:ext cx="1479600" cy="255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66920" y="383688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igital wr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94040" y="267984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62720" y="270504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432320" y="1778040"/>
            <a:ext cx="774720" cy="393480"/>
            <a:chOff x="4432320" y="1778040"/>
            <a:chExt cx="774720" cy="393480"/>
          </a:xfrm>
        </p:grpSpPr>
        <p:sp>
          <p:nvSpPr>
            <p:cNvPr id="475" name=""/>
            <p:cNvSpPr/>
            <p:nvPr/>
          </p:nvSpPr>
          <p:spPr>
            <a:xfrm flipV="1">
              <a:off x="4444560" y="179064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32320" y="1778040"/>
              <a:ext cx="774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07040" y="177804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085920" y="1803240"/>
            <a:ext cx="774360" cy="393480"/>
            <a:chOff x="3085920" y="1803240"/>
            <a:chExt cx="774360" cy="393480"/>
          </a:xfrm>
        </p:grpSpPr>
        <p:sp>
          <p:nvSpPr>
            <p:cNvPr id="479" name=""/>
            <p:cNvSpPr/>
            <p:nvPr/>
          </p:nvSpPr>
          <p:spPr>
            <a:xfrm flipV="1">
              <a:off x="3848040" y="181584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085920" y="1803240"/>
              <a:ext cx="7743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85920" y="180324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3306600" y="12463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ut-of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20000" y="30243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83560" y="32274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99760" y="30495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514600" y="3467160"/>
            <a:ext cx="30492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9440" y="4821120"/>
            <a:ext cx="668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WDM equipment supports wrapper and 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Both wrapper and OBS used for signa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305960" y="2324160"/>
            <a:ext cx="1459800" cy="790560"/>
            <a:chOff x="4305960" y="2324160"/>
            <a:chExt cx="1459800" cy="790560"/>
          </a:xfrm>
        </p:grpSpPr>
        <p:sp>
          <p:nvSpPr>
            <p:cNvPr id="489" name=""/>
            <p:cNvSpPr/>
            <p:nvPr/>
          </p:nvSpPr>
          <p:spPr>
            <a:xfrm>
              <a:off x="5290920" y="2336760"/>
              <a:ext cx="47484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449680" y="238284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21160" y="23828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21160" y="24703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21160" y="25527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21160" y="26370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21160" y="27273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21160" y="28098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4305960" y="2405160"/>
              <a:ext cx="985320" cy="603360"/>
              <a:chOff x="4305960" y="2405160"/>
              <a:chExt cx="985320" cy="603360"/>
            </a:xfrm>
          </p:grpSpPr>
          <p:sp>
            <p:nvSpPr>
              <p:cNvPr id="498" name=""/>
              <p:cNvSpPr/>
              <p:nvPr/>
            </p:nvSpPr>
            <p:spPr>
              <a:xfrm>
                <a:off x="4319640" y="240516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305960" y="2606760"/>
                <a:ext cx="985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319640" y="2803680"/>
                <a:ext cx="97164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319640" y="300852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4824360" y="2324160"/>
              <a:ext cx="492120" cy="790560"/>
              <a:chOff x="4824360" y="2324160"/>
              <a:chExt cx="492120" cy="790560"/>
            </a:xfrm>
          </p:grpSpPr>
          <p:sp>
            <p:nvSpPr>
              <p:cNvPr id="503" name=""/>
              <p:cNvSpPr/>
              <p:nvPr/>
            </p:nvSpPr>
            <p:spPr>
              <a:xfrm>
                <a:off x="4824360" y="23241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824360" y="25398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24360" y="27558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824360" y="29462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"/>
          <p:cNvGrpSpPr/>
          <p:nvPr/>
        </p:nvGrpSpPr>
        <p:grpSpPr>
          <a:xfrm>
            <a:off x="2317680" y="2273400"/>
            <a:ext cx="1460160" cy="790560"/>
            <a:chOff x="2317680" y="2273400"/>
            <a:chExt cx="1460160" cy="790560"/>
          </a:xfrm>
        </p:grpSpPr>
        <p:sp>
          <p:nvSpPr>
            <p:cNvPr id="508" name=""/>
            <p:cNvSpPr/>
            <p:nvPr/>
          </p:nvSpPr>
          <p:spPr>
            <a:xfrm flipH="1">
              <a:off x="2317680" y="231120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2404080" y="235728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698560" y="235728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698560" y="244476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698560" y="252720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698560" y="261144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2698560" y="27018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2698560" y="278424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792160" y="2379600"/>
              <a:ext cx="985680" cy="603360"/>
              <a:chOff x="2792160" y="2379600"/>
              <a:chExt cx="985680" cy="603360"/>
            </a:xfrm>
          </p:grpSpPr>
          <p:sp>
            <p:nvSpPr>
              <p:cNvPr id="517" name=""/>
              <p:cNvSpPr/>
              <p:nvPr/>
            </p:nvSpPr>
            <p:spPr>
              <a:xfrm flipH="1">
                <a:off x="2792160" y="237960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2792160" y="2581200"/>
                <a:ext cx="985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2792160" y="2778120"/>
                <a:ext cx="97200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2792160" y="298296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2798640" y="2273400"/>
              <a:ext cx="492120" cy="790560"/>
              <a:chOff x="2798640" y="2273400"/>
              <a:chExt cx="492120" cy="790560"/>
            </a:xfrm>
          </p:grpSpPr>
          <p:sp>
            <p:nvSpPr>
              <p:cNvPr id="522" name=""/>
              <p:cNvSpPr/>
              <p:nvPr/>
            </p:nvSpPr>
            <p:spPr>
              <a:xfrm>
                <a:off x="2798640" y="22734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798640" y="24890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98640" y="270504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798640" y="289548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7467480" y="2222640"/>
            <a:ext cx="1066680" cy="1003320"/>
            <a:chOff x="7467480" y="2222640"/>
            <a:chExt cx="1066680" cy="1003320"/>
          </a:xfrm>
        </p:grpSpPr>
        <p:sp>
          <p:nvSpPr>
            <p:cNvPr id="527" name=""/>
            <p:cNvSpPr/>
            <p:nvPr/>
          </p:nvSpPr>
          <p:spPr>
            <a:xfrm>
              <a:off x="7467480" y="2222640"/>
              <a:ext cx="1066680" cy="10033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25800" y="237960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36760" y="2386080"/>
              <a:ext cx="502200" cy="646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39320" y="303228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8264520" y="237348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7761600" y="2379600"/>
              <a:ext cx="5022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7551000" y="302724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524400" y="2222640"/>
            <a:ext cx="1066320" cy="1003320"/>
            <a:chOff x="3524400" y="2222640"/>
            <a:chExt cx="1066320" cy="1003320"/>
          </a:xfrm>
        </p:grpSpPr>
        <p:sp>
          <p:nvSpPr>
            <p:cNvPr id="535" name=""/>
            <p:cNvSpPr/>
            <p:nvPr/>
          </p:nvSpPr>
          <p:spPr>
            <a:xfrm>
              <a:off x="3524400" y="2222640"/>
              <a:ext cx="1066320" cy="10033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82720" y="2379600"/>
              <a:ext cx="21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93680" y="2386080"/>
              <a:ext cx="502200" cy="646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95880" y="3032280"/>
              <a:ext cx="21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320720" y="2373480"/>
              <a:ext cx="21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818520" y="2379600"/>
              <a:ext cx="5022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3607560" y="3027240"/>
              <a:ext cx="21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V="1">
            <a:off x="2940120" y="3759120"/>
            <a:ext cx="2279520" cy="12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70400" y="3746520"/>
            <a:ext cx="1568520" cy="255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8C3-900F-4591-BB1A-9B73B5A7CE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ing Configurations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108840" y="2349360"/>
            <a:ext cx="474480" cy="743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195240" y="2395440"/>
            <a:ext cx="228600" cy="628920"/>
          </a:xfrm>
          <a:custGeom>
            <a:avLst/>
            <a:gdLst/>
            <a:ahLst/>
            <a:rect l="l" t="t" r="r" b="b"/>
            <a:pathLst>
              <a:path w="347" h="576">
                <a:moveTo>
                  <a:pt x="0" y="0"/>
                </a:moveTo>
                <a:lnTo>
                  <a:pt x="0" y="576"/>
                </a:lnTo>
                <a:lnTo>
                  <a:pt x="347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489720" y="2395440"/>
            <a:ext cx="63360" cy="44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489720" y="2482920"/>
            <a:ext cx="63360" cy="4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489720" y="2565360"/>
            <a:ext cx="63360" cy="49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489720" y="2649600"/>
            <a:ext cx="63360" cy="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489720" y="2739960"/>
            <a:ext cx="6336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6489720" y="2822400"/>
            <a:ext cx="6336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502320" y="1943280"/>
            <a:ext cx="1587600" cy="393480"/>
            <a:chOff x="6502320" y="1943280"/>
            <a:chExt cx="1587600" cy="393480"/>
          </a:xfrm>
        </p:grpSpPr>
        <p:sp>
          <p:nvSpPr>
            <p:cNvPr id="554" name=""/>
            <p:cNvSpPr/>
            <p:nvPr/>
          </p:nvSpPr>
          <p:spPr>
            <a:xfrm flipV="1">
              <a:off x="6527880" y="195588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2320" y="1943280"/>
              <a:ext cx="15876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89920" y="19432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6494400" y="142416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ut-of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83320" y="2417760"/>
            <a:ext cx="985680" cy="603360"/>
            <a:chOff x="6583320" y="2417760"/>
            <a:chExt cx="985680" cy="603360"/>
          </a:xfrm>
        </p:grpSpPr>
        <p:sp>
          <p:nvSpPr>
            <p:cNvPr id="559" name=""/>
            <p:cNvSpPr/>
            <p:nvPr/>
          </p:nvSpPr>
          <p:spPr>
            <a:xfrm flipH="1">
              <a:off x="6583320" y="2417760"/>
              <a:ext cx="97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583320" y="2619360"/>
              <a:ext cx="985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583320" y="2816280"/>
              <a:ext cx="972000" cy="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583320" y="3021120"/>
              <a:ext cx="97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6589800" y="2311560"/>
            <a:ext cx="492120" cy="790560"/>
            <a:chOff x="6589800" y="2311560"/>
            <a:chExt cx="492120" cy="790560"/>
          </a:xfrm>
        </p:grpSpPr>
        <p:sp>
          <p:nvSpPr>
            <p:cNvPr id="564" name=""/>
            <p:cNvSpPr/>
            <p:nvPr/>
          </p:nvSpPr>
          <p:spPr>
            <a:xfrm>
              <a:off x="6589800" y="2311560"/>
              <a:ext cx="492120" cy="16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89800" y="2527200"/>
              <a:ext cx="492120" cy="168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89800" y="2743200"/>
              <a:ext cx="492120" cy="16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89800" y="2933640"/>
              <a:ext cx="492120" cy="168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34240" y="2324160"/>
            <a:ext cx="1459800" cy="790560"/>
            <a:chOff x="534240" y="2324160"/>
            <a:chExt cx="1459800" cy="790560"/>
          </a:xfrm>
        </p:grpSpPr>
        <p:sp>
          <p:nvSpPr>
            <p:cNvPr id="569" name=""/>
            <p:cNvSpPr/>
            <p:nvPr/>
          </p:nvSpPr>
          <p:spPr>
            <a:xfrm>
              <a:off x="1519200" y="2336760"/>
              <a:ext cx="47484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77960" y="238284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49440" y="23828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49440" y="24703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49440" y="25527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49440" y="26370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49440" y="27273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49440" y="28098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534240" y="2405160"/>
              <a:ext cx="985320" cy="603360"/>
              <a:chOff x="534240" y="2405160"/>
              <a:chExt cx="985320" cy="6033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7920" y="240516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34240" y="2606760"/>
                <a:ext cx="985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7920" y="2803680"/>
                <a:ext cx="97164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7920" y="300852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052640" y="2324160"/>
              <a:ext cx="492120" cy="790560"/>
              <a:chOff x="1052640" y="2324160"/>
              <a:chExt cx="492120" cy="790560"/>
            </a:xfrm>
          </p:grpSpPr>
          <p:sp>
            <p:nvSpPr>
              <p:cNvPr id="583" name=""/>
              <p:cNvSpPr/>
              <p:nvPr/>
            </p:nvSpPr>
            <p:spPr>
              <a:xfrm>
                <a:off x="1052640" y="23241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052640" y="25398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052640" y="27558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052640" y="29462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>
            <a:off x="1371600" y="3772080"/>
            <a:ext cx="54864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66920" y="383688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igital wr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641680" y="2314440"/>
            <a:ext cx="1460160" cy="743040"/>
            <a:chOff x="2641680" y="2314440"/>
            <a:chExt cx="1460160" cy="743040"/>
          </a:xfrm>
        </p:grpSpPr>
        <p:sp>
          <p:nvSpPr>
            <p:cNvPr id="590" name=""/>
            <p:cNvSpPr/>
            <p:nvPr/>
          </p:nvSpPr>
          <p:spPr>
            <a:xfrm flipH="1">
              <a:off x="2641680" y="231444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728080" y="2347920"/>
              <a:ext cx="228600" cy="62856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022560" y="2347920"/>
              <a:ext cx="63360" cy="44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022560" y="2435040"/>
              <a:ext cx="63360" cy="44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3022560" y="251748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022560" y="2601720"/>
              <a:ext cx="63360" cy="4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3022560" y="2692440"/>
              <a:ext cx="63360" cy="4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3022560" y="277488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3115800" y="2382840"/>
              <a:ext cx="986040" cy="603000"/>
              <a:chOff x="3115800" y="2382840"/>
              <a:chExt cx="986040" cy="603000"/>
            </a:xfrm>
          </p:grpSpPr>
          <p:sp>
            <p:nvSpPr>
              <p:cNvPr id="599" name=""/>
              <p:cNvSpPr/>
              <p:nvPr/>
            </p:nvSpPr>
            <p:spPr>
              <a:xfrm flipH="1">
                <a:off x="3115800" y="2382840"/>
                <a:ext cx="971640" cy="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3115800" y="2584080"/>
                <a:ext cx="98604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115800" y="2781000"/>
                <a:ext cx="971640" cy="6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115800" y="2985840"/>
                <a:ext cx="971640" cy="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4132440" y="2314440"/>
            <a:ext cx="1442880" cy="743040"/>
            <a:chOff x="4132440" y="2314440"/>
            <a:chExt cx="1442880" cy="743040"/>
          </a:xfrm>
        </p:grpSpPr>
        <p:sp>
          <p:nvSpPr>
            <p:cNvPr id="604" name=""/>
            <p:cNvSpPr/>
            <p:nvPr/>
          </p:nvSpPr>
          <p:spPr>
            <a:xfrm>
              <a:off x="5100840" y="231444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284800" y="2373120"/>
              <a:ext cx="228600" cy="62856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56280" y="237312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56280" y="246060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56280" y="254304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56280" y="262728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156280" y="271764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56280" y="280008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132440" y="2382840"/>
              <a:ext cx="985680" cy="603000"/>
              <a:chOff x="4132440" y="2382840"/>
              <a:chExt cx="985680" cy="603000"/>
            </a:xfrm>
          </p:grpSpPr>
          <p:sp>
            <p:nvSpPr>
              <p:cNvPr id="613" name=""/>
              <p:cNvSpPr/>
              <p:nvPr/>
            </p:nvSpPr>
            <p:spPr>
              <a:xfrm flipH="1">
                <a:off x="4132440" y="2382840"/>
                <a:ext cx="971280" cy="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4132440" y="2584080"/>
                <a:ext cx="985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4132440" y="2781000"/>
                <a:ext cx="971280" cy="6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4132440" y="2985840"/>
                <a:ext cx="971280" cy="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" name=""/>
          <p:cNvSpPr/>
          <p:nvPr/>
        </p:nvSpPr>
        <p:spPr>
          <a:xfrm>
            <a:off x="1994040" y="267984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62720" y="270504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50960" y="2070000"/>
            <a:ext cx="1270080" cy="12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86040" y="15638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34120" y="2133720"/>
            <a:ext cx="927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91360" y="161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432320" y="1778040"/>
            <a:ext cx="774720" cy="393480"/>
            <a:chOff x="4432320" y="1778040"/>
            <a:chExt cx="774720" cy="393480"/>
          </a:xfrm>
        </p:grpSpPr>
        <p:sp>
          <p:nvSpPr>
            <p:cNvPr id="624" name=""/>
            <p:cNvSpPr/>
            <p:nvPr/>
          </p:nvSpPr>
          <p:spPr>
            <a:xfrm flipV="1">
              <a:off x="4444560" y="179064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32320" y="1778040"/>
              <a:ext cx="774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07040" y="177804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3085920" y="1803240"/>
            <a:ext cx="774360" cy="393480"/>
            <a:chOff x="3085920" y="1803240"/>
            <a:chExt cx="774360" cy="393480"/>
          </a:xfrm>
        </p:grpSpPr>
        <p:sp>
          <p:nvSpPr>
            <p:cNvPr id="628" name=""/>
            <p:cNvSpPr/>
            <p:nvPr/>
          </p:nvSpPr>
          <p:spPr>
            <a:xfrm flipV="1">
              <a:off x="3848040" y="181584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085920" y="1803240"/>
              <a:ext cx="7743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85920" y="180324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3306600" y="12463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ut-of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20000" y="30243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83560" y="32274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9760" y="30495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514600" y="3467160"/>
            <a:ext cx="30492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640" y="4738680"/>
            <a:ext cx="865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All-optical WDM equipment =&gt; no wrapper support ins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ignaling through OBS and O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581280" y="2203560"/>
            <a:ext cx="1066680" cy="1003320"/>
            <a:chOff x="3581280" y="2203560"/>
            <a:chExt cx="1066680" cy="1003320"/>
          </a:xfrm>
        </p:grpSpPr>
        <p:sp>
          <p:nvSpPr>
            <p:cNvPr id="638" name=""/>
            <p:cNvSpPr/>
            <p:nvPr/>
          </p:nvSpPr>
          <p:spPr>
            <a:xfrm>
              <a:off x="3581280" y="2203560"/>
              <a:ext cx="1066680" cy="10033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39600" y="236052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50560" y="2367000"/>
              <a:ext cx="502200" cy="646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53120" y="301320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4378320" y="235440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875400" y="2360520"/>
              <a:ext cx="5022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664800" y="300816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V="1">
            <a:off x="5943600" y="3448080"/>
            <a:ext cx="30492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467480" y="2222640"/>
            <a:ext cx="1066680" cy="1003320"/>
            <a:chOff x="7467480" y="2222640"/>
            <a:chExt cx="1066680" cy="1003320"/>
          </a:xfrm>
        </p:grpSpPr>
        <p:sp>
          <p:nvSpPr>
            <p:cNvPr id="647" name=""/>
            <p:cNvSpPr/>
            <p:nvPr/>
          </p:nvSpPr>
          <p:spPr>
            <a:xfrm>
              <a:off x="7467480" y="2222640"/>
              <a:ext cx="1066680" cy="10033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5800" y="237960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736760" y="2386080"/>
              <a:ext cx="502200" cy="646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39320" y="303228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8264520" y="237348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7761600" y="2379600"/>
              <a:ext cx="5022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551000" y="302724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062-5B91-4262-A07E-226A858364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ing Configurations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6108840" y="2349360"/>
            <a:ext cx="474480" cy="743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6195240" y="2395440"/>
            <a:ext cx="228600" cy="628920"/>
          </a:xfrm>
          <a:custGeom>
            <a:avLst/>
            <a:gdLst/>
            <a:ahLst/>
            <a:rect l="l" t="t" r="r" b="b"/>
            <a:pathLst>
              <a:path w="347" h="576">
                <a:moveTo>
                  <a:pt x="0" y="0"/>
                </a:moveTo>
                <a:lnTo>
                  <a:pt x="0" y="576"/>
                </a:lnTo>
                <a:lnTo>
                  <a:pt x="347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6489720" y="2395440"/>
            <a:ext cx="63360" cy="44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6489720" y="2482920"/>
            <a:ext cx="63360" cy="4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6489720" y="2565360"/>
            <a:ext cx="63360" cy="49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489720" y="2649600"/>
            <a:ext cx="63360" cy="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489720" y="2739960"/>
            <a:ext cx="6336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6489720" y="2822400"/>
            <a:ext cx="6336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502320" y="1943280"/>
            <a:ext cx="1587600" cy="393480"/>
            <a:chOff x="6502320" y="1943280"/>
            <a:chExt cx="1587600" cy="393480"/>
          </a:xfrm>
        </p:grpSpPr>
        <p:sp>
          <p:nvSpPr>
            <p:cNvPr id="664" name=""/>
            <p:cNvSpPr/>
            <p:nvPr/>
          </p:nvSpPr>
          <p:spPr>
            <a:xfrm flipV="1">
              <a:off x="6527880" y="195588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02320" y="1943280"/>
              <a:ext cx="15876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89920" y="19432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6494400" y="142416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ut-of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6583320" y="2417760"/>
            <a:ext cx="985680" cy="603360"/>
            <a:chOff x="6583320" y="2417760"/>
            <a:chExt cx="985680" cy="603360"/>
          </a:xfrm>
        </p:grpSpPr>
        <p:sp>
          <p:nvSpPr>
            <p:cNvPr id="669" name=""/>
            <p:cNvSpPr/>
            <p:nvPr/>
          </p:nvSpPr>
          <p:spPr>
            <a:xfrm flipH="1">
              <a:off x="6583320" y="2417760"/>
              <a:ext cx="97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6583320" y="2619360"/>
              <a:ext cx="985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6583320" y="2816280"/>
              <a:ext cx="972000" cy="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583320" y="3021120"/>
              <a:ext cx="97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6589800" y="2311560"/>
            <a:ext cx="492120" cy="790560"/>
            <a:chOff x="6589800" y="2311560"/>
            <a:chExt cx="492120" cy="790560"/>
          </a:xfrm>
        </p:grpSpPr>
        <p:sp>
          <p:nvSpPr>
            <p:cNvPr id="674" name=""/>
            <p:cNvSpPr/>
            <p:nvPr/>
          </p:nvSpPr>
          <p:spPr>
            <a:xfrm>
              <a:off x="6589800" y="2311560"/>
              <a:ext cx="492120" cy="16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589800" y="2527200"/>
              <a:ext cx="492120" cy="168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589800" y="2743200"/>
              <a:ext cx="492120" cy="16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89800" y="2933640"/>
              <a:ext cx="492120" cy="168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534240" y="2324160"/>
            <a:ext cx="1459800" cy="790560"/>
            <a:chOff x="534240" y="2324160"/>
            <a:chExt cx="1459800" cy="790560"/>
          </a:xfrm>
        </p:grpSpPr>
        <p:sp>
          <p:nvSpPr>
            <p:cNvPr id="679" name=""/>
            <p:cNvSpPr/>
            <p:nvPr/>
          </p:nvSpPr>
          <p:spPr>
            <a:xfrm>
              <a:off x="1519200" y="2336760"/>
              <a:ext cx="47484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677960" y="238284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549440" y="23828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549440" y="24703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49440" y="25527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49440" y="26370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49440" y="27273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49440" y="28098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534240" y="2405160"/>
              <a:ext cx="985320" cy="603360"/>
              <a:chOff x="534240" y="2405160"/>
              <a:chExt cx="985320" cy="603360"/>
            </a:xfrm>
          </p:grpSpPr>
          <p:sp>
            <p:nvSpPr>
              <p:cNvPr id="688" name=""/>
              <p:cNvSpPr/>
              <p:nvPr/>
            </p:nvSpPr>
            <p:spPr>
              <a:xfrm>
                <a:off x="547920" y="240516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34240" y="2606760"/>
                <a:ext cx="985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7920" y="2803680"/>
                <a:ext cx="97164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47920" y="300852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1052640" y="2324160"/>
              <a:ext cx="492120" cy="790560"/>
              <a:chOff x="1052640" y="2324160"/>
              <a:chExt cx="492120" cy="790560"/>
            </a:xfrm>
          </p:grpSpPr>
          <p:sp>
            <p:nvSpPr>
              <p:cNvPr id="693" name=""/>
              <p:cNvSpPr/>
              <p:nvPr/>
            </p:nvSpPr>
            <p:spPr>
              <a:xfrm>
                <a:off x="1052640" y="23241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052640" y="25398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52640" y="27558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052640" y="29462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7" name=""/>
          <p:cNvGrpSpPr/>
          <p:nvPr/>
        </p:nvGrpSpPr>
        <p:grpSpPr>
          <a:xfrm>
            <a:off x="2641680" y="2314440"/>
            <a:ext cx="1460160" cy="743040"/>
            <a:chOff x="2641680" y="2314440"/>
            <a:chExt cx="1460160" cy="743040"/>
          </a:xfrm>
        </p:grpSpPr>
        <p:sp>
          <p:nvSpPr>
            <p:cNvPr id="698" name=""/>
            <p:cNvSpPr/>
            <p:nvPr/>
          </p:nvSpPr>
          <p:spPr>
            <a:xfrm flipH="1">
              <a:off x="2641680" y="231444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2728080" y="2347920"/>
              <a:ext cx="228600" cy="62856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3022560" y="2347920"/>
              <a:ext cx="63360" cy="44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3022560" y="2435040"/>
              <a:ext cx="63360" cy="44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3022560" y="251748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3022560" y="2601720"/>
              <a:ext cx="63360" cy="4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3022560" y="2692440"/>
              <a:ext cx="63360" cy="4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022560" y="277488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3115800" y="2382840"/>
              <a:ext cx="986040" cy="603000"/>
              <a:chOff x="3115800" y="2382840"/>
              <a:chExt cx="986040" cy="603000"/>
            </a:xfrm>
          </p:grpSpPr>
          <p:sp>
            <p:nvSpPr>
              <p:cNvPr id="707" name=""/>
              <p:cNvSpPr/>
              <p:nvPr/>
            </p:nvSpPr>
            <p:spPr>
              <a:xfrm flipH="1">
                <a:off x="3115800" y="2382840"/>
                <a:ext cx="971640" cy="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3115800" y="2584080"/>
                <a:ext cx="98604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3115800" y="2781000"/>
                <a:ext cx="971640" cy="6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3115800" y="2985840"/>
                <a:ext cx="971640" cy="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1" name=""/>
          <p:cNvGrpSpPr/>
          <p:nvPr/>
        </p:nvGrpSpPr>
        <p:grpSpPr>
          <a:xfrm>
            <a:off x="4132440" y="2314440"/>
            <a:ext cx="1442880" cy="743040"/>
            <a:chOff x="4132440" y="2314440"/>
            <a:chExt cx="1442880" cy="743040"/>
          </a:xfrm>
        </p:grpSpPr>
        <p:sp>
          <p:nvSpPr>
            <p:cNvPr id="712" name=""/>
            <p:cNvSpPr/>
            <p:nvPr/>
          </p:nvSpPr>
          <p:spPr>
            <a:xfrm>
              <a:off x="5100840" y="231444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84800" y="2373120"/>
              <a:ext cx="228600" cy="62856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56280" y="237312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56280" y="246060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56280" y="254304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156280" y="262728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56280" y="271764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56280" y="280008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132440" y="2382840"/>
              <a:ext cx="985680" cy="603000"/>
              <a:chOff x="4132440" y="2382840"/>
              <a:chExt cx="985680" cy="603000"/>
            </a:xfrm>
          </p:grpSpPr>
          <p:sp>
            <p:nvSpPr>
              <p:cNvPr id="721" name=""/>
              <p:cNvSpPr/>
              <p:nvPr/>
            </p:nvSpPr>
            <p:spPr>
              <a:xfrm flipH="1">
                <a:off x="4132440" y="2382840"/>
                <a:ext cx="971280" cy="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4132440" y="2584080"/>
                <a:ext cx="985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132440" y="2781000"/>
                <a:ext cx="971280" cy="6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4132440" y="2985840"/>
                <a:ext cx="971280" cy="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5" name=""/>
          <p:cNvSpPr/>
          <p:nvPr/>
        </p:nvSpPr>
        <p:spPr>
          <a:xfrm>
            <a:off x="1994040" y="267984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62720" y="270504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50960" y="2070000"/>
            <a:ext cx="1270080" cy="12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86040" y="15638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133720"/>
            <a:ext cx="927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91360" y="161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4432320" y="1778040"/>
            <a:ext cx="774720" cy="393480"/>
            <a:chOff x="4432320" y="1778040"/>
            <a:chExt cx="774720" cy="393480"/>
          </a:xfrm>
        </p:grpSpPr>
        <p:sp>
          <p:nvSpPr>
            <p:cNvPr id="732" name=""/>
            <p:cNvSpPr/>
            <p:nvPr/>
          </p:nvSpPr>
          <p:spPr>
            <a:xfrm flipV="1">
              <a:off x="4444560" y="179064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32320" y="1778040"/>
              <a:ext cx="774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207040" y="177804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085920" y="1803240"/>
            <a:ext cx="774360" cy="393480"/>
            <a:chOff x="3085920" y="1803240"/>
            <a:chExt cx="774360" cy="393480"/>
          </a:xfrm>
        </p:grpSpPr>
        <p:sp>
          <p:nvSpPr>
            <p:cNvPr id="736" name=""/>
            <p:cNvSpPr/>
            <p:nvPr/>
          </p:nvSpPr>
          <p:spPr>
            <a:xfrm flipV="1">
              <a:off x="3848040" y="181584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085920" y="1803240"/>
              <a:ext cx="7743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085920" y="180324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3306600" y="12463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ut-of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20000" y="30243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83560" y="32274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099760" y="30495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2514600" y="3467160"/>
            <a:ext cx="30492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9640" y="4865760"/>
            <a:ext cx="71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WDM equipment with no wrapper support at al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ignaling is conveyed through OBS+O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581280" y="2203560"/>
            <a:ext cx="1066680" cy="1003320"/>
            <a:chOff x="3581280" y="2203560"/>
            <a:chExt cx="1066680" cy="1003320"/>
          </a:xfrm>
        </p:grpSpPr>
        <p:sp>
          <p:nvSpPr>
            <p:cNvPr id="746" name=""/>
            <p:cNvSpPr/>
            <p:nvPr/>
          </p:nvSpPr>
          <p:spPr>
            <a:xfrm>
              <a:off x="3581280" y="2203560"/>
              <a:ext cx="1066680" cy="10033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39600" y="236052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50560" y="2367000"/>
              <a:ext cx="502200" cy="646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353120" y="301320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378320" y="235440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3875400" y="2360520"/>
              <a:ext cx="5022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664800" y="300816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 flipV="1">
            <a:off x="5943600" y="3448080"/>
            <a:ext cx="30492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7467480" y="2222640"/>
            <a:ext cx="1066680" cy="1003320"/>
            <a:chOff x="7467480" y="2222640"/>
            <a:chExt cx="1066680" cy="1003320"/>
          </a:xfrm>
        </p:grpSpPr>
        <p:sp>
          <p:nvSpPr>
            <p:cNvPr id="755" name=""/>
            <p:cNvSpPr/>
            <p:nvPr/>
          </p:nvSpPr>
          <p:spPr>
            <a:xfrm>
              <a:off x="7467480" y="2222640"/>
              <a:ext cx="1066680" cy="10033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25800" y="237960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736760" y="2386080"/>
              <a:ext cx="502200" cy="646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239320" y="303228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8264520" y="237348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7761600" y="2379600"/>
              <a:ext cx="5022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7551000" y="302724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 flipH="1" flipV="1">
            <a:off x="1352160" y="3276360"/>
            <a:ext cx="723960" cy="1485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5429160" y="3505320"/>
            <a:ext cx="324000" cy="129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597-6A2B-4EE2-A876-DEC225C095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ing Configurations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8159760" y="2679840"/>
            <a:ext cx="609480" cy="1003320"/>
            <a:chOff x="8159760" y="2679840"/>
            <a:chExt cx="609480" cy="1003320"/>
          </a:xfrm>
        </p:grpSpPr>
        <p:sp>
          <p:nvSpPr>
            <p:cNvPr id="766" name=""/>
            <p:cNvSpPr/>
            <p:nvPr/>
          </p:nvSpPr>
          <p:spPr>
            <a:xfrm>
              <a:off x="8159760" y="2679840"/>
              <a:ext cx="609480" cy="10033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193240" y="2836800"/>
              <a:ext cx="120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313840" y="2842920"/>
              <a:ext cx="287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601480" y="3489840"/>
              <a:ext cx="120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8614440" y="2831040"/>
              <a:ext cx="120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8327160" y="2836800"/>
              <a:ext cx="287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8206560" y="3484080"/>
              <a:ext cx="120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699240" y="2806560"/>
            <a:ext cx="1460160" cy="790560"/>
            <a:chOff x="6699240" y="2806560"/>
            <a:chExt cx="1460160" cy="790560"/>
          </a:xfrm>
        </p:grpSpPr>
        <p:sp>
          <p:nvSpPr>
            <p:cNvPr id="774" name=""/>
            <p:cNvSpPr/>
            <p:nvPr/>
          </p:nvSpPr>
          <p:spPr>
            <a:xfrm flipH="1">
              <a:off x="6699240" y="284436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6785640" y="289044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080120" y="28904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080120" y="29779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080120" y="30603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080120" y="31446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080120" y="32349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080120" y="33174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7173720" y="2912760"/>
              <a:ext cx="985680" cy="603360"/>
              <a:chOff x="7173720" y="2912760"/>
              <a:chExt cx="985680" cy="603360"/>
            </a:xfrm>
          </p:grpSpPr>
          <p:sp>
            <p:nvSpPr>
              <p:cNvPr id="783" name=""/>
              <p:cNvSpPr/>
              <p:nvPr/>
            </p:nvSpPr>
            <p:spPr>
              <a:xfrm flipH="1">
                <a:off x="7173720" y="291276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73720" y="3114360"/>
                <a:ext cx="985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173720" y="3311280"/>
                <a:ext cx="97200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7173720" y="351612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7180200" y="2806560"/>
              <a:ext cx="492120" cy="790560"/>
              <a:chOff x="7180200" y="2806560"/>
              <a:chExt cx="492120" cy="79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7180200" y="28065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180200" y="30222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180200" y="32382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180200" y="34286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1124640" y="2819520"/>
            <a:ext cx="1459800" cy="790560"/>
            <a:chOff x="1124640" y="2819520"/>
            <a:chExt cx="1459800" cy="790560"/>
          </a:xfrm>
        </p:grpSpPr>
        <p:sp>
          <p:nvSpPr>
            <p:cNvPr id="793" name=""/>
            <p:cNvSpPr/>
            <p:nvPr/>
          </p:nvSpPr>
          <p:spPr>
            <a:xfrm>
              <a:off x="2109600" y="2832120"/>
              <a:ext cx="47484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68360" y="287820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39840" y="287820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9840" y="296568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9840" y="304812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139840" y="313236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39840" y="322272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39840" y="33051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124640" y="2900520"/>
              <a:ext cx="985320" cy="603360"/>
              <a:chOff x="1124640" y="2900520"/>
              <a:chExt cx="985320" cy="603360"/>
            </a:xfrm>
          </p:grpSpPr>
          <p:sp>
            <p:nvSpPr>
              <p:cNvPr id="802" name=""/>
              <p:cNvSpPr/>
              <p:nvPr/>
            </p:nvSpPr>
            <p:spPr>
              <a:xfrm>
                <a:off x="1138320" y="290052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24640" y="3102120"/>
                <a:ext cx="985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38320" y="3299040"/>
                <a:ext cx="97164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138320" y="350388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1643040" y="2819520"/>
              <a:ext cx="492120" cy="790560"/>
              <a:chOff x="1643040" y="2819520"/>
              <a:chExt cx="492120" cy="79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1643040" y="281952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643040" y="303516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643040" y="32511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643040" y="34416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1" name=""/>
          <p:cNvSpPr/>
          <p:nvPr/>
        </p:nvSpPr>
        <p:spPr>
          <a:xfrm>
            <a:off x="2584440" y="317484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53120" y="320040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32680" y="1360440"/>
            <a:ext cx="31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ut-of-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n separate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81800" y="35766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73960" y="37227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47400" y="36590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3276720" y="3695400"/>
            <a:ext cx="34272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95200" y="4764240"/>
            <a:ext cx="86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Legacy WDM equipment  with no wrapper suppo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ignaling is conveyed through OBS on separate 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(dedicated wavelength or E1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4896720" y="2819520"/>
            <a:ext cx="1459800" cy="790560"/>
            <a:chOff x="4896720" y="2819520"/>
            <a:chExt cx="1459800" cy="790560"/>
          </a:xfrm>
        </p:grpSpPr>
        <p:sp>
          <p:nvSpPr>
            <p:cNvPr id="820" name=""/>
            <p:cNvSpPr/>
            <p:nvPr/>
          </p:nvSpPr>
          <p:spPr>
            <a:xfrm>
              <a:off x="5881680" y="2832120"/>
              <a:ext cx="47484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40440" y="287820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11920" y="287820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11920" y="296568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11920" y="304812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11920" y="313236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11920" y="322272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911920" y="33051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4896720" y="2900520"/>
              <a:ext cx="985320" cy="603360"/>
              <a:chOff x="4896720" y="2900520"/>
              <a:chExt cx="985320" cy="603360"/>
            </a:xfrm>
          </p:grpSpPr>
          <p:sp>
            <p:nvSpPr>
              <p:cNvPr id="829" name=""/>
              <p:cNvSpPr/>
              <p:nvPr/>
            </p:nvSpPr>
            <p:spPr>
              <a:xfrm>
                <a:off x="4910400" y="290052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896720" y="3102120"/>
                <a:ext cx="985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910400" y="3299040"/>
                <a:ext cx="97164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910400" y="350388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5415120" y="2819520"/>
              <a:ext cx="492120" cy="790560"/>
              <a:chOff x="5415120" y="2819520"/>
              <a:chExt cx="492120" cy="790560"/>
            </a:xfrm>
          </p:grpSpPr>
          <p:sp>
            <p:nvSpPr>
              <p:cNvPr id="834" name=""/>
              <p:cNvSpPr/>
              <p:nvPr/>
            </p:nvSpPr>
            <p:spPr>
              <a:xfrm>
                <a:off x="5415120" y="281952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415120" y="303516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415120" y="32511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415120" y="34416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2908440" y="2768760"/>
            <a:ext cx="1460160" cy="790560"/>
            <a:chOff x="2908440" y="2768760"/>
            <a:chExt cx="1460160" cy="790560"/>
          </a:xfrm>
        </p:grpSpPr>
        <p:sp>
          <p:nvSpPr>
            <p:cNvPr id="839" name=""/>
            <p:cNvSpPr/>
            <p:nvPr/>
          </p:nvSpPr>
          <p:spPr>
            <a:xfrm flipH="1">
              <a:off x="2908440" y="280656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994840" y="285264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289320" y="28526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289320" y="29401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289320" y="30225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289320" y="31068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289320" y="31971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289320" y="32796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3382920" y="2874960"/>
              <a:ext cx="985680" cy="603360"/>
              <a:chOff x="3382920" y="2874960"/>
              <a:chExt cx="985680" cy="603360"/>
            </a:xfrm>
          </p:grpSpPr>
          <p:sp>
            <p:nvSpPr>
              <p:cNvPr id="848" name=""/>
              <p:cNvSpPr/>
              <p:nvPr/>
            </p:nvSpPr>
            <p:spPr>
              <a:xfrm flipH="1">
                <a:off x="3382920" y="287496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382920" y="3076560"/>
                <a:ext cx="985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3382920" y="3273480"/>
                <a:ext cx="97200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382920" y="347832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3389400" y="2768760"/>
              <a:ext cx="492120" cy="790560"/>
              <a:chOff x="3389400" y="2768760"/>
              <a:chExt cx="492120" cy="790560"/>
            </a:xfrm>
          </p:grpSpPr>
          <p:sp>
            <p:nvSpPr>
              <p:cNvPr id="853" name=""/>
              <p:cNvSpPr/>
              <p:nvPr/>
            </p:nvSpPr>
            <p:spPr>
              <a:xfrm>
                <a:off x="3389400" y="27687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89400" y="29844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89400" y="32004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400" y="33908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4172040" y="2679840"/>
            <a:ext cx="1066680" cy="1003320"/>
            <a:chOff x="4172040" y="2679840"/>
            <a:chExt cx="1066680" cy="1003320"/>
          </a:xfrm>
        </p:grpSpPr>
        <p:sp>
          <p:nvSpPr>
            <p:cNvPr id="858" name=""/>
            <p:cNvSpPr/>
            <p:nvPr/>
          </p:nvSpPr>
          <p:spPr>
            <a:xfrm>
              <a:off x="4172040" y="2679840"/>
              <a:ext cx="1066680" cy="10033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230720" y="283680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41680" y="2842920"/>
              <a:ext cx="503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944960" y="348984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968360" y="283104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465440" y="2836800"/>
              <a:ext cx="503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254480" y="348408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 flipV="1">
            <a:off x="4992840" y="2239560"/>
            <a:ext cx="0" cy="3445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978440" y="2228760"/>
            <a:ext cx="37018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8648640" y="2239560"/>
            <a:ext cx="0" cy="3445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1904760" y="3714480"/>
            <a:ext cx="43812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590400" y="2679840"/>
            <a:ext cx="609840" cy="1003320"/>
            <a:chOff x="590400" y="2679840"/>
            <a:chExt cx="609840" cy="1003320"/>
          </a:xfrm>
        </p:grpSpPr>
        <p:sp>
          <p:nvSpPr>
            <p:cNvPr id="870" name=""/>
            <p:cNvSpPr/>
            <p:nvPr/>
          </p:nvSpPr>
          <p:spPr>
            <a:xfrm>
              <a:off x="590400" y="2679840"/>
              <a:ext cx="609840" cy="10033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23880" y="2836800"/>
              <a:ext cx="12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4480" y="2843280"/>
              <a:ext cx="287280" cy="646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31760" y="3489480"/>
              <a:ext cx="12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045800" y="2830680"/>
              <a:ext cx="12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58880" y="2836800"/>
              <a:ext cx="28728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637920" y="3484440"/>
              <a:ext cx="12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1217880" y="1379520"/>
            <a:ext cx="31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ut-of-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n separate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878040" y="2258640"/>
            <a:ext cx="0" cy="3445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63640" y="2247840"/>
            <a:ext cx="37018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4533840" y="2258640"/>
            <a:ext cx="0" cy="3445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D76-BEC3-4333-80C1-86289F6084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ing Configurations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070680" y="3111480"/>
            <a:ext cx="474480" cy="743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6157080" y="3157560"/>
            <a:ext cx="228600" cy="628560"/>
          </a:xfrm>
          <a:custGeom>
            <a:avLst/>
            <a:gdLst/>
            <a:ahLst/>
            <a:rect l="l" t="t" r="r" b="b"/>
            <a:pathLst>
              <a:path w="347" h="576">
                <a:moveTo>
                  <a:pt x="0" y="0"/>
                </a:moveTo>
                <a:lnTo>
                  <a:pt x="0" y="576"/>
                </a:lnTo>
                <a:lnTo>
                  <a:pt x="347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6450840" y="3157560"/>
            <a:ext cx="63720" cy="44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6450840" y="3244680"/>
            <a:ext cx="63720" cy="44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6450840" y="3327480"/>
            <a:ext cx="63720" cy="489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6450840" y="3411360"/>
            <a:ext cx="63720" cy="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6450840" y="3502080"/>
            <a:ext cx="6372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6450840" y="3584520"/>
            <a:ext cx="6372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6545160" y="3179880"/>
            <a:ext cx="985680" cy="603000"/>
            <a:chOff x="6545160" y="3179880"/>
            <a:chExt cx="985680" cy="603000"/>
          </a:xfrm>
        </p:grpSpPr>
        <p:sp>
          <p:nvSpPr>
            <p:cNvPr id="891" name=""/>
            <p:cNvSpPr/>
            <p:nvPr/>
          </p:nvSpPr>
          <p:spPr>
            <a:xfrm flipH="1">
              <a:off x="6545160" y="3179880"/>
              <a:ext cx="97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6545160" y="3381120"/>
              <a:ext cx="985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6545160" y="3578040"/>
              <a:ext cx="972000" cy="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545160" y="3782880"/>
              <a:ext cx="97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551640" y="3073320"/>
            <a:ext cx="492120" cy="790560"/>
            <a:chOff x="6551640" y="3073320"/>
            <a:chExt cx="492120" cy="790560"/>
          </a:xfrm>
        </p:grpSpPr>
        <p:sp>
          <p:nvSpPr>
            <p:cNvPr id="896" name=""/>
            <p:cNvSpPr/>
            <p:nvPr/>
          </p:nvSpPr>
          <p:spPr>
            <a:xfrm>
              <a:off x="6551640" y="3073320"/>
              <a:ext cx="492120" cy="16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551640" y="3288960"/>
              <a:ext cx="492120" cy="168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551640" y="3504960"/>
              <a:ext cx="492120" cy="16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51640" y="3695400"/>
              <a:ext cx="492120" cy="168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496080" y="3086280"/>
            <a:ext cx="1459800" cy="790560"/>
            <a:chOff x="496080" y="3086280"/>
            <a:chExt cx="1459800" cy="790560"/>
          </a:xfrm>
        </p:grpSpPr>
        <p:sp>
          <p:nvSpPr>
            <p:cNvPr id="901" name=""/>
            <p:cNvSpPr/>
            <p:nvPr/>
          </p:nvSpPr>
          <p:spPr>
            <a:xfrm>
              <a:off x="1481040" y="3098880"/>
              <a:ext cx="47484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39800" y="314496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11280" y="314496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511280" y="323244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11280" y="331488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11280" y="339912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511280" y="348948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11280" y="357192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496080" y="3167280"/>
              <a:ext cx="985320" cy="603360"/>
              <a:chOff x="496080" y="3167280"/>
              <a:chExt cx="985320" cy="603360"/>
            </a:xfrm>
          </p:grpSpPr>
          <p:sp>
            <p:nvSpPr>
              <p:cNvPr id="910" name=""/>
              <p:cNvSpPr/>
              <p:nvPr/>
            </p:nvSpPr>
            <p:spPr>
              <a:xfrm>
                <a:off x="509760" y="316728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96080" y="3368880"/>
                <a:ext cx="985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9760" y="3565800"/>
                <a:ext cx="97164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9760" y="377064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1014480" y="3086280"/>
              <a:ext cx="492120" cy="790560"/>
              <a:chOff x="1014480" y="3086280"/>
              <a:chExt cx="492120" cy="790560"/>
            </a:xfrm>
          </p:grpSpPr>
          <p:sp>
            <p:nvSpPr>
              <p:cNvPr id="915" name=""/>
              <p:cNvSpPr/>
              <p:nvPr/>
            </p:nvSpPr>
            <p:spPr>
              <a:xfrm>
                <a:off x="1014480" y="308628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014480" y="330192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014480" y="351792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014480" y="370836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9" name=""/>
          <p:cNvSpPr/>
          <p:nvPr/>
        </p:nvSpPr>
        <p:spPr>
          <a:xfrm>
            <a:off x="1333440" y="4533840"/>
            <a:ext cx="54864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129120" y="45990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igital wr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603520" y="2946240"/>
            <a:ext cx="2933280" cy="1002960"/>
            <a:chOff x="2603520" y="2946240"/>
            <a:chExt cx="2933280" cy="1002960"/>
          </a:xfrm>
        </p:grpSpPr>
        <p:grpSp>
          <p:nvGrpSpPr>
            <p:cNvPr id="922" name=""/>
            <p:cNvGrpSpPr/>
            <p:nvPr/>
          </p:nvGrpSpPr>
          <p:grpSpPr>
            <a:xfrm>
              <a:off x="2603520" y="3076200"/>
              <a:ext cx="1460160" cy="743040"/>
              <a:chOff x="2603520" y="3076200"/>
              <a:chExt cx="1460160" cy="743040"/>
            </a:xfrm>
          </p:grpSpPr>
          <p:sp>
            <p:nvSpPr>
              <p:cNvPr id="923" name=""/>
              <p:cNvSpPr/>
              <p:nvPr/>
            </p:nvSpPr>
            <p:spPr>
              <a:xfrm flipH="1">
                <a:off x="2603520" y="3076200"/>
                <a:ext cx="474480" cy="743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2689920" y="3109680"/>
                <a:ext cx="228600" cy="628560"/>
              </a:xfrm>
              <a:custGeom>
                <a:avLst/>
                <a:gdLst/>
                <a:ahLst/>
                <a:rect l="l" t="t" r="r" b="b"/>
                <a:pathLst>
                  <a:path w="347" h="576">
                    <a:moveTo>
                      <a:pt x="0" y="0"/>
                    </a:moveTo>
                    <a:lnTo>
                      <a:pt x="0" y="576"/>
                    </a:lnTo>
                    <a:lnTo>
                      <a:pt x="347" y="2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2984400" y="3109680"/>
                <a:ext cx="63360" cy="442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2984400" y="3196800"/>
                <a:ext cx="63360" cy="44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2984400" y="3279240"/>
                <a:ext cx="63360" cy="49320"/>
              </a:xfrm>
              <a:prstGeom prst="rect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2984400" y="3363480"/>
                <a:ext cx="63360" cy="4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2984400" y="3454200"/>
                <a:ext cx="63360" cy="4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2984400" y="3536640"/>
                <a:ext cx="63360" cy="4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3077640" y="3144600"/>
                <a:ext cx="986040" cy="603000"/>
                <a:chOff x="3077640" y="3144600"/>
                <a:chExt cx="986040" cy="603000"/>
              </a:xfrm>
            </p:grpSpPr>
            <p:sp>
              <p:nvSpPr>
                <p:cNvPr id="932" name=""/>
                <p:cNvSpPr/>
                <p:nvPr/>
              </p:nvSpPr>
              <p:spPr>
                <a:xfrm flipH="1">
                  <a:off x="3077640" y="3144600"/>
                  <a:ext cx="971640" cy="0"/>
                </a:xfrm>
                <a:prstGeom prst="line">
                  <a:avLst/>
                </a:prstGeom>
                <a:ln w="572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3077640" y="3345840"/>
                  <a:ext cx="986040" cy="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>
                  <a:off x="3077640" y="3542760"/>
                  <a:ext cx="971640" cy="61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>
                  <a:off x="3077640" y="3747600"/>
                  <a:ext cx="971640" cy="0"/>
                </a:xfrm>
                <a:prstGeom prst="line">
                  <a:avLst/>
                </a:prstGeom>
                <a:ln w="572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6" name=""/>
            <p:cNvGrpSpPr/>
            <p:nvPr/>
          </p:nvGrpSpPr>
          <p:grpSpPr>
            <a:xfrm>
              <a:off x="4093920" y="3076200"/>
              <a:ext cx="1442880" cy="743040"/>
              <a:chOff x="4093920" y="3076200"/>
              <a:chExt cx="1442880" cy="74304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2320" y="3076200"/>
                <a:ext cx="474480" cy="743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246280" y="3134880"/>
                <a:ext cx="228600" cy="628560"/>
              </a:xfrm>
              <a:custGeom>
                <a:avLst/>
                <a:gdLst/>
                <a:ahLst/>
                <a:rect l="l" t="t" r="r" b="b"/>
                <a:pathLst>
                  <a:path w="347" h="576">
                    <a:moveTo>
                      <a:pt x="0" y="0"/>
                    </a:moveTo>
                    <a:lnTo>
                      <a:pt x="0" y="576"/>
                    </a:lnTo>
                    <a:lnTo>
                      <a:pt x="347" y="2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117760" y="3134880"/>
                <a:ext cx="63360" cy="446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117760" y="3222360"/>
                <a:ext cx="63360" cy="44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117760" y="3304800"/>
                <a:ext cx="63360" cy="49320"/>
              </a:xfrm>
              <a:prstGeom prst="rect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117760" y="3389040"/>
                <a:ext cx="63360" cy="4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117760" y="3479400"/>
                <a:ext cx="63360" cy="4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117760" y="3561840"/>
                <a:ext cx="63360" cy="4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5" name=""/>
              <p:cNvGrpSpPr/>
              <p:nvPr/>
            </p:nvGrpSpPr>
            <p:grpSpPr>
              <a:xfrm>
                <a:off x="4093920" y="3144600"/>
                <a:ext cx="985680" cy="603000"/>
                <a:chOff x="4093920" y="3144600"/>
                <a:chExt cx="985680" cy="603000"/>
              </a:xfrm>
            </p:grpSpPr>
            <p:sp>
              <p:nvSpPr>
                <p:cNvPr id="946" name=""/>
                <p:cNvSpPr/>
                <p:nvPr/>
              </p:nvSpPr>
              <p:spPr>
                <a:xfrm flipH="1">
                  <a:off x="4093920" y="3144600"/>
                  <a:ext cx="971280" cy="0"/>
                </a:xfrm>
                <a:prstGeom prst="line">
                  <a:avLst/>
                </a:prstGeom>
                <a:ln w="572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4093920" y="3345840"/>
                  <a:ext cx="985680" cy="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4093920" y="3542760"/>
                  <a:ext cx="971280" cy="61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4093920" y="3747600"/>
                  <a:ext cx="971280" cy="0"/>
                </a:xfrm>
                <a:prstGeom prst="line">
                  <a:avLst/>
                </a:prstGeom>
                <a:ln w="572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0" name=""/>
            <p:cNvGrpSpPr/>
            <p:nvPr/>
          </p:nvGrpSpPr>
          <p:grpSpPr>
            <a:xfrm>
              <a:off x="3543120" y="2946240"/>
              <a:ext cx="1066680" cy="1002960"/>
              <a:chOff x="3543120" y="2946240"/>
              <a:chExt cx="1066680" cy="1002960"/>
            </a:xfrm>
          </p:grpSpPr>
          <p:sp>
            <p:nvSpPr>
              <p:cNvPr id="951" name=""/>
              <p:cNvSpPr/>
              <p:nvPr/>
            </p:nvSpPr>
            <p:spPr>
              <a:xfrm>
                <a:off x="3543120" y="2946240"/>
                <a:ext cx="1066680" cy="100296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601800" y="3103200"/>
                <a:ext cx="210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812760" y="3108960"/>
                <a:ext cx="503280" cy="6465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316040" y="3755880"/>
                <a:ext cx="2113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4339440" y="3097440"/>
                <a:ext cx="2113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3836520" y="3103200"/>
                <a:ext cx="503280" cy="6465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3625560" y="3750120"/>
                <a:ext cx="210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8" name=""/>
          <p:cNvSpPr/>
          <p:nvPr/>
        </p:nvSpPr>
        <p:spPr>
          <a:xfrm>
            <a:off x="1955880" y="344160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524560" y="346716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81840" y="37861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45400" y="39895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061600" y="38116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2476440" y="4229280"/>
            <a:ext cx="30492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26600" y="5595840"/>
            <a:ext cx="87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umb optical network, controlled and managed by rou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7937280" y="2266560"/>
            <a:ext cx="6120" cy="64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982280" y="2319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467480" y="1676520"/>
            <a:ext cx="990720" cy="55224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5270400" y="2266560"/>
            <a:ext cx="6480" cy="64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43440" y="23385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47800" y="1733400"/>
            <a:ext cx="2857680" cy="55260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 flipV="1">
            <a:off x="3879720" y="2285640"/>
            <a:ext cx="6480" cy="64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2793960" y="2285640"/>
            <a:ext cx="6480" cy="64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6248520" y="2247840"/>
            <a:ext cx="1365120" cy="819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1612800" y="2381040"/>
            <a:ext cx="6480" cy="64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14440" y="2433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43000" y="1790640"/>
            <a:ext cx="990720" cy="55260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7524720" y="2984400"/>
            <a:ext cx="1066320" cy="1003320"/>
            <a:chOff x="7524720" y="2984400"/>
            <a:chExt cx="1066320" cy="1003320"/>
          </a:xfrm>
        </p:grpSpPr>
        <p:sp>
          <p:nvSpPr>
            <p:cNvPr id="978" name=""/>
            <p:cNvSpPr/>
            <p:nvPr/>
          </p:nvSpPr>
          <p:spPr>
            <a:xfrm>
              <a:off x="7524720" y="2984400"/>
              <a:ext cx="1066320" cy="10033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583040" y="3141360"/>
              <a:ext cx="21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794000" y="3147840"/>
              <a:ext cx="502200" cy="646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296200" y="3794040"/>
              <a:ext cx="21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8321040" y="3135240"/>
              <a:ext cx="21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7818840" y="3141360"/>
              <a:ext cx="5022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7607880" y="3789000"/>
              <a:ext cx="21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E8E-50A0-4B6B-97EB-F0E937B09E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grading Legacy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1231920" y="2917800"/>
            <a:ext cx="1398600" cy="1397160"/>
            <a:chOff x="1231920" y="2917800"/>
            <a:chExt cx="1398600" cy="1397160"/>
          </a:xfrm>
        </p:grpSpPr>
        <p:sp>
          <p:nvSpPr>
            <p:cNvPr id="987" name=""/>
            <p:cNvSpPr/>
            <p:nvPr/>
          </p:nvSpPr>
          <p:spPr>
            <a:xfrm flipH="1">
              <a:off x="1231920" y="2917800"/>
              <a:ext cx="782640" cy="1397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1374120" y="3005280"/>
              <a:ext cx="376200" cy="118404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1476360" y="3295800"/>
              <a:ext cx="182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1858320" y="3005280"/>
              <a:ext cx="104760" cy="83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1858320" y="3164040"/>
              <a:ext cx="104760" cy="87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1858320" y="3322800"/>
              <a:ext cx="104760" cy="9036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1858320" y="3483000"/>
              <a:ext cx="104760" cy="8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1858320" y="3651120"/>
              <a:ext cx="104760" cy="8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1858320" y="3813120"/>
              <a:ext cx="104760" cy="8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024280" y="2959200"/>
              <a:ext cx="593640" cy="2952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024280" y="3301920"/>
              <a:ext cx="593640" cy="295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036880" y="4000680"/>
              <a:ext cx="593640" cy="2952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5022720" y="1317600"/>
            <a:ext cx="1398600" cy="1396800"/>
            <a:chOff x="5022720" y="1317600"/>
            <a:chExt cx="1398600" cy="1396800"/>
          </a:xfrm>
        </p:grpSpPr>
        <p:sp>
          <p:nvSpPr>
            <p:cNvPr id="1000" name=""/>
            <p:cNvSpPr/>
            <p:nvPr/>
          </p:nvSpPr>
          <p:spPr>
            <a:xfrm flipH="1">
              <a:off x="5022720" y="1317600"/>
              <a:ext cx="782640" cy="1396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164920" y="1404720"/>
              <a:ext cx="376200" cy="118440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266440" y="1695240"/>
              <a:ext cx="182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5649120" y="1404720"/>
              <a:ext cx="104760" cy="84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5649120" y="1563480"/>
              <a:ext cx="104760" cy="87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5649120" y="1722240"/>
              <a:ext cx="104760" cy="9036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5649120" y="1882440"/>
              <a:ext cx="104760" cy="8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5649120" y="2050920"/>
              <a:ext cx="104760" cy="8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5649120" y="2212920"/>
              <a:ext cx="104760" cy="8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814720" y="1358640"/>
              <a:ext cx="593640" cy="295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14720" y="1701720"/>
              <a:ext cx="593640" cy="295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27680" y="2400120"/>
              <a:ext cx="593640" cy="295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4984560" y="4683240"/>
            <a:ext cx="1398240" cy="1396800"/>
            <a:chOff x="4984560" y="4683240"/>
            <a:chExt cx="1398240" cy="1396800"/>
          </a:xfrm>
        </p:grpSpPr>
        <p:sp>
          <p:nvSpPr>
            <p:cNvPr id="1013" name=""/>
            <p:cNvSpPr/>
            <p:nvPr/>
          </p:nvSpPr>
          <p:spPr>
            <a:xfrm flipH="1">
              <a:off x="4984200" y="4683240"/>
              <a:ext cx="782280" cy="1396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127480" y="4770360"/>
              <a:ext cx="375840" cy="118368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5228280" y="5060880"/>
              <a:ext cx="182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5611680" y="4770360"/>
              <a:ext cx="104400" cy="83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5611680" y="4929120"/>
              <a:ext cx="104400" cy="86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611680" y="5087880"/>
              <a:ext cx="104400" cy="9000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5611680" y="5248080"/>
              <a:ext cx="104400" cy="8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5611680" y="5416200"/>
              <a:ext cx="104400" cy="8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611680" y="5578200"/>
              <a:ext cx="104400" cy="8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776920" y="4724280"/>
              <a:ext cx="593280" cy="294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76920" y="5067000"/>
              <a:ext cx="593280" cy="2952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89520" y="5765760"/>
              <a:ext cx="593280" cy="294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 flipH="1" flipV="1">
            <a:off x="5384520" y="4051080"/>
            <a:ext cx="6120" cy="64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70800" y="35892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533280" y="177336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ew O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2819520" y="2095200"/>
            <a:ext cx="1638360" cy="120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06560" y="3759120"/>
            <a:ext cx="1638360" cy="120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984920" y="30560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6AD-E2DE-4BB2-82EC-DBE1626508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 flipH="1">
            <a:off x="2890800" y="1677960"/>
            <a:ext cx="227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2928960" y="2414520"/>
            <a:ext cx="227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of-Band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20760" y="1139760"/>
            <a:ext cx="782640" cy="1397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262960" y="1227240"/>
            <a:ext cx="376200" cy="1184040"/>
          </a:xfrm>
          <a:custGeom>
            <a:avLst/>
            <a:gdLst/>
            <a:ahLst/>
            <a:rect l="l" t="t" r="r" b="b"/>
            <a:pathLst>
              <a:path w="347" h="576">
                <a:moveTo>
                  <a:pt x="0" y="0"/>
                </a:moveTo>
                <a:lnTo>
                  <a:pt x="0" y="576"/>
                </a:lnTo>
                <a:lnTo>
                  <a:pt x="347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365200" y="1517760"/>
            <a:ext cx="18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903400" y="1271520"/>
            <a:ext cx="227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2747160" y="1227240"/>
            <a:ext cx="104760" cy="83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2747160" y="1386000"/>
            <a:ext cx="104760" cy="87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2747160" y="1544760"/>
            <a:ext cx="104760" cy="90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2747160" y="1704960"/>
            <a:ext cx="104760" cy="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747160" y="1873080"/>
            <a:ext cx="104760" cy="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747160" y="2035080"/>
            <a:ext cx="104760" cy="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913120" y="1181160"/>
            <a:ext cx="593640" cy="295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/E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13120" y="1523880"/>
            <a:ext cx="593640" cy="295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/E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25720" y="2222640"/>
            <a:ext cx="593640" cy="295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/E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183280" y="1193760"/>
            <a:ext cx="1523520" cy="1421640"/>
            <a:chOff x="5183280" y="1193760"/>
            <a:chExt cx="1523520" cy="1421640"/>
          </a:xfrm>
        </p:grpSpPr>
        <p:sp>
          <p:nvSpPr>
            <p:cNvPr id="1048" name=""/>
            <p:cNvSpPr/>
            <p:nvPr/>
          </p:nvSpPr>
          <p:spPr>
            <a:xfrm>
              <a:off x="5183280" y="1193760"/>
              <a:ext cx="1523520" cy="14216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74440" y="1240560"/>
              <a:ext cx="1148400" cy="5806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op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X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527200" y="2755800"/>
            <a:ext cx="1841400" cy="342720"/>
            <a:chOff x="2527200" y="2755800"/>
            <a:chExt cx="1841400" cy="342720"/>
          </a:xfrm>
        </p:grpSpPr>
        <p:sp>
          <p:nvSpPr>
            <p:cNvPr id="1051" name=""/>
            <p:cNvSpPr/>
            <p:nvPr/>
          </p:nvSpPr>
          <p:spPr>
            <a:xfrm>
              <a:off x="2527200" y="2755800"/>
              <a:ext cx="1841400" cy="34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527200" y="2755800"/>
              <a:ext cx="863640" cy="304560"/>
            </a:xfrm>
            <a:prstGeom prst="rect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h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2527200" y="3263760"/>
            <a:ext cx="1841400" cy="342720"/>
            <a:chOff x="2527200" y="3263760"/>
            <a:chExt cx="1841400" cy="342720"/>
          </a:xfrm>
        </p:grpSpPr>
        <p:sp>
          <p:nvSpPr>
            <p:cNvPr id="1054" name=""/>
            <p:cNvSpPr/>
            <p:nvPr/>
          </p:nvSpPr>
          <p:spPr>
            <a:xfrm>
              <a:off x="2527200" y="3263760"/>
              <a:ext cx="1841400" cy="34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27200" y="3263760"/>
              <a:ext cx="863640" cy="304560"/>
            </a:xfrm>
            <a:prstGeom prst="rect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h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2527200" y="4038480"/>
            <a:ext cx="1841400" cy="342720"/>
            <a:chOff x="2527200" y="4038480"/>
            <a:chExt cx="1841400" cy="342720"/>
          </a:xfrm>
        </p:grpSpPr>
        <p:sp>
          <p:nvSpPr>
            <p:cNvPr id="1057" name=""/>
            <p:cNvSpPr/>
            <p:nvPr/>
          </p:nvSpPr>
          <p:spPr>
            <a:xfrm>
              <a:off x="2527200" y="4038480"/>
              <a:ext cx="1841400" cy="34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527200" y="4038480"/>
              <a:ext cx="863640" cy="304560"/>
            </a:xfrm>
            <a:prstGeom prst="rect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h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2028960" y="26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119680" y="271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119680" y="31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118960" y="39765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3537000" y="3733920"/>
            <a:ext cx="42840" cy="258120"/>
            <a:chOff x="3537000" y="3733920"/>
            <a:chExt cx="42840" cy="258120"/>
          </a:xfrm>
        </p:grpSpPr>
        <p:sp>
          <p:nvSpPr>
            <p:cNvPr id="1064" name=""/>
            <p:cNvSpPr/>
            <p:nvPr/>
          </p:nvSpPr>
          <p:spPr>
            <a:xfrm>
              <a:off x="3537000" y="3733920"/>
              <a:ext cx="42840" cy="42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37000" y="3841560"/>
              <a:ext cx="42840" cy="42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37000" y="3949560"/>
              <a:ext cx="42840" cy="42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4660920" y="2755800"/>
            <a:ext cx="254160" cy="1663920"/>
          </a:xfrm>
          <a:custGeom>
            <a:avLst/>
            <a:gdLst>
              <a:gd name="textAreaLeft" fmla="*/ 0 w 254160"/>
              <a:gd name="textAreaRight" fmla="*/ 91800 w 254160"/>
              <a:gd name="textAreaTop" fmla="*/ 43200 h 1663920"/>
              <a:gd name="textAreaBottom" fmla="*/ 1620720 h 166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007240" y="324000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wrapper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540160" y="5118120"/>
            <a:ext cx="587988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552760" y="5143680"/>
            <a:ext cx="1739880" cy="304560"/>
            <a:chOff x="2552760" y="5143680"/>
            <a:chExt cx="1739880" cy="304560"/>
          </a:xfrm>
        </p:grpSpPr>
        <p:sp>
          <p:nvSpPr>
            <p:cNvPr id="1071" name=""/>
            <p:cNvSpPr/>
            <p:nvPr/>
          </p:nvSpPr>
          <p:spPr>
            <a:xfrm>
              <a:off x="3429000" y="5143680"/>
              <a:ext cx="863640" cy="304560"/>
            </a:xfrm>
            <a:prstGeom prst="rect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h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52760" y="5143680"/>
              <a:ext cx="863640" cy="30456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D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406760" y="5143680"/>
            <a:ext cx="1739880" cy="304560"/>
            <a:chOff x="4406760" y="5143680"/>
            <a:chExt cx="1739880" cy="304560"/>
          </a:xfrm>
        </p:grpSpPr>
        <p:sp>
          <p:nvSpPr>
            <p:cNvPr id="1074" name=""/>
            <p:cNvSpPr/>
            <p:nvPr/>
          </p:nvSpPr>
          <p:spPr>
            <a:xfrm>
              <a:off x="5283000" y="5143680"/>
              <a:ext cx="863640" cy="304560"/>
            </a:xfrm>
            <a:prstGeom prst="rect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h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06760" y="5143680"/>
              <a:ext cx="863640" cy="30456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D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692760" y="5156280"/>
            <a:ext cx="1739880" cy="304560"/>
            <a:chOff x="6692760" y="5156280"/>
            <a:chExt cx="1739880" cy="304560"/>
          </a:xfrm>
        </p:grpSpPr>
        <p:sp>
          <p:nvSpPr>
            <p:cNvPr id="1077" name=""/>
            <p:cNvSpPr/>
            <p:nvPr/>
          </p:nvSpPr>
          <p:spPr>
            <a:xfrm>
              <a:off x="7569000" y="5156280"/>
              <a:ext cx="863640" cy="304560"/>
            </a:xfrm>
            <a:prstGeom prst="rect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h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692760" y="5156280"/>
              <a:ext cx="863640" cy="30456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D(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6273720" y="5276520"/>
            <a:ext cx="258840" cy="42840"/>
            <a:chOff x="6273720" y="5276520"/>
            <a:chExt cx="258840" cy="42840"/>
          </a:xfrm>
        </p:grpSpPr>
        <p:sp>
          <p:nvSpPr>
            <p:cNvPr id="1080" name=""/>
            <p:cNvSpPr/>
            <p:nvPr/>
          </p:nvSpPr>
          <p:spPr>
            <a:xfrm rot="16200000">
              <a:off x="6273720" y="5276520"/>
              <a:ext cx="42840" cy="42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6381720" y="5276520"/>
              <a:ext cx="42840" cy="42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6200000">
              <a:off x="6489720" y="5276520"/>
              <a:ext cx="42840" cy="42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4140000" y="556416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ban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5400000">
            <a:off x="5600880" y="4088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D03-BD35-45BA-B8DE-F5CF37AC6E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-oriented (periodic) or message based (event dri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directly map wrapper overhead into out-of-ban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uch bandwid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integrate overhea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defect information (LOS, BER) instead of raw 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packet-oriented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baseT? E1/DS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DB2-E724-4066-AD76-E6D5820A52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 Issues (UNI/N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ifferent signaling configurations through a single NNI/UNI 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wra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through OSC (internal issue per ven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f signaling onto dedicate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E1/DS1signaling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bandwidth for OXC-OXC communication (in both wrapper and 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mesh protection algorithms (vendor specif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 with OADMs as OXC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007440" y="555156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eparate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6A8-C534-466F-820A-99387DABC7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band signaling (OBS) interface needed to enable open optic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to digital wrapper/other inband signal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detailed investigation of 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``limited’’ NNI/UNI focused on defining signaling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protocols and higher level behavior are future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1D0-8E9D-436E-9118-A479C38461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724280" cy="4838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31760" y="3603600"/>
            <a:ext cx="607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ing Enhanc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Open Optical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jiv Ramasw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os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jiv@xro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7E1-3E22-4B8F-8930-925805AF46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Optical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553080" y="2184480"/>
            <a:ext cx="1066680" cy="1003320"/>
            <a:chOff x="6553080" y="2184480"/>
            <a:chExt cx="1066680" cy="1003320"/>
          </a:xfrm>
        </p:grpSpPr>
        <p:sp>
          <p:nvSpPr>
            <p:cNvPr id="50" name=""/>
            <p:cNvSpPr/>
            <p:nvPr/>
          </p:nvSpPr>
          <p:spPr>
            <a:xfrm>
              <a:off x="6553080" y="2184480"/>
              <a:ext cx="1066680" cy="10033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11760" y="234144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22720" y="2347560"/>
              <a:ext cx="503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26000" y="299448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349400" y="233568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846480" y="2341440"/>
              <a:ext cx="503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635520" y="298872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flipV="1">
            <a:off x="3403440" y="2742840"/>
            <a:ext cx="20955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092560" y="2349360"/>
            <a:ext cx="1459440" cy="743040"/>
            <a:chOff x="5092560" y="2349360"/>
            <a:chExt cx="1459440" cy="743040"/>
          </a:xfrm>
        </p:grpSpPr>
        <p:sp>
          <p:nvSpPr>
            <p:cNvPr id="59" name=""/>
            <p:cNvSpPr/>
            <p:nvPr/>
          </p:nvSpPr>
          <p:spPr>
            <a:xfrm flipH="1">
              <a:off x="5092560" y="234936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5178960" y="2395440"/>
              <a:ext cx="228600" cy="62856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473440" y="23954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473440" y="24829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473440" y="25653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473440" y="26496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5473440" y="27399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473440" y="28224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5566680" y="2417760"/>
              <a:ext cx="985320" cy="603360"/>
              <a:chOff x="5566680" y="2417760"/>
              <a:chExt cx="985320" cy="603360"/>
            </a:xfrm>
          </p:grpSpPr>
          <p:sp>
            <p:nvSpPr>
              <p:cNvPr id="68" name=""/>
              <p:cNvSpPr/>
              <p:nvPr/>
            </p:nvSpPr>
            <p:spPr>
              <a:xfrm flipH="1">
                <a:off x="5566680" y="241776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5566680" y="2619360"/>
                <a:ext cx="985320" cy="0"/>
              </a:xfrm>
              <a:prstGeom prst="line">
                <a:avLst/>
              </a:prstGeom>
              <a:ln w="572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5566680" y="2816280"/>
                <a:ext cx="971640" cy="6120"/>
              </a:xfrm>
              <a:prstGeom prst="line">
                <a:avLst/>
              </a:prstGeom>
              <a:ln w="57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5566680" y="302112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905840" y="2349360"/>
            <a:ext cx="1459440" cy="743040"/>
            <a:chOff x="1905840" y="2349360"/>
            <a:chExt cx="1459440" cy="743040"/>
          </a:xfrm>
        </p:grpSpPr>
        <p:sp>
          <p:nvSpPr>
            <p:cNvPr id="73" name=""/>
            <p:cNvSpPr/>
            <p:nvPr/>
          </p:nvSpPr>
          <p:spPr>
            <a:xfrm>
              <a:off x="2890800" y="234936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9920" y="2395440"/>
              <a:ext cx="228600" cy="62856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21040" y="23954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21040" y="24829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21040" y="25653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21040" y="26496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21040" y="27399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21040" y="28224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05840" y="2417760"/>
              <a:ext cx="985320" cy="603360"/>
              <a:chOff x="1905840" y="2417760"/>
              <a:chExt cx="985320" cy="603360"/>
            </a:xfrm>
          </p:grpSpPr>
          <p:sp>
            <p:nvSpPr>
              <p:cNvPr id="82" name=""/>
              <p:cNvSpPr/>
              <p:nvPr/>
            </p:nvSpPr>
            <p:spPr>
              <a:xfrm>
                <a:off x="1919520" y="241776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05840" y="2619360"/>
                <a:ext cx="985320" cy="0"/>
              </a:xfrm>
              <a:prstGeom prst="line">
                <a:avLst/>
              </a:prstGeom>
              <a:ln w="572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19520" y="2816280"/>
                <a:ext cx="971640" cy="6120"/>
              </a:xfrm>
              <a:prstGeom prst="line">
                <a:avLst/>
              </a:prstGeom>
              <a:ln w="57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19520" y="302112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851040" y="2171880"/>
            <a:ext cx="1066680" cy="1002960"/>
            <a:chOff x="851040" y="2171880"/>
            <a:chExt cx="1066680" cy="1002960"/>
          </a:xfrm>
        </p:grpSpPr>
        <p:sp>
          <p:nvSpPr>
            <p:cNvPr id="87" name=""/>
            <p:cNvSpPr/>
            <p:nvPr/>
          </p:nvSpPr>
          <p:spPr>
            <a:xfrm>
              <a:off x="851040" y="2171880"/>
              <a:ext cx="1066680" cy="1002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9720" y="232884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20680" y="2334600"/>
              <a:ext cx="503280" cy="646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23960" y="298152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47360" y="232308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144440" y="2328840"/>
              <a:ext cx="503280" cy="646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933480" y="297576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77760" y="4089240"/>
            <a:ext cx="736920" cy="4597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18320" y="4140360"/>
            <a:ext cx="736560" cy="4597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46040" y="3187800"/>
            <a:ext cx="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9200" y="3213000"/>
            <a:ext cx="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72280" y="1968480"/>
            <a:ext cx="0" cy="3808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46720" y="1955880"/>
            <a:ext cx="1587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1955880"/>
            <a:ext cx="0" cy="228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397160" y="1523880"/>
            <a:ext cx="0" cy="648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84200" y="1523880"/>
            <a:ext cx="5931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27800" y="1523880"/>
            <a:ext cx="0" cy="660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07240" y="3225960"/>
            <a:ext cx="0" cy="9144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6480" y="3214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31892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7560" y="99216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C-O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88080" y="15256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C-W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560" y="3456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C-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5600" y="4840200"/>
            <a:ext cx="728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hanced signaling supports contro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nagement of multi-vendo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06840" y="2946240"/>
            <a:ext cx="355680" cy="3556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95680" y="2984400"/>
            <a:ext cx="355680" cy="3556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3600" y="33256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04920" y="41641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44960" y="24620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014720" y="2444760"/>
            <a:ext cx="451080" cy="474480"/>
            <a:chOff x="4014720" y="2444760"/>
            <a:chExt cx="451080" cy="474480"/>
          </a:xfrm>
        </p:grpSpPr>
        <p:sp>
          <p:nvSpPr>
            <p:cNvPr id="117" name=""/>
            <p:cNvSpPr/>
            <p:nvPr/>
          </p:nvSpPr>
          <p:spPr>
            <a:xfrm rot="16200000">
              <a:off x="4002840" y="2456280"/>
              <a:ext cx="474480" cy="451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4118760" y="2456640"/>
              <a:ext cx="228600" cy="38160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024080" y="2845800"/>
              <a:ext cx="63360" cy="26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077000" y="2845440"/>
              <a:ext cx="63360" cy="27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128840" y="2844000"/>
              <a:ext cx="63360" cy="298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4178520" y="2845800"/>
              <a:ext cx="63360" cy="2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233600" y="2845080"/>
              <a:ext cx="63360" cy="2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4283640" y="2845080"/>
              <a:ext cx="63360" cy="2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02200" y="2933640"/>
            <a:ext cx="279360" cy="304920"/>
            <a:chOff x="4102200" y="2933640"/>
            <a:chExt cx="279360" cy="304920"/>
          </a:xfrm>
        </p:grpSpPr>
        <p:sp>
          <p:nvSpPr>
            <p:cNvPr id="126" name=""/>
            <p:cNvSpPr/>
            <p:nvPr/>
          </p:nvSpPr>
          <p:spPr>
            <a:xfrm>
              <a:off x="4102200" y="293364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1880" y="293364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81560" y="293364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216320" y="1549440"/>
            <a:ext cx="0" cy="90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54960" y="1422360"/>
            <a:ext cx="190440" cy="6224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82480" y="1017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00000" y="34686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D9A-3C40-4B35-B2A6-82C1421C98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the Network is He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427120" y="4114800"/>
            <a:ext cx="1523880" cy="622080"/>
            <a:chOff x="2427120" y="4114800"/>
            <a:chExt cx="1523880" cy="622080"/>
          </a:xfrm>
        </p:grpSpPr>
        <p:sp>
          <p:nvSpPr>
            <p:cNvPr id="135" name=""/>
            <p:cNvSpPr/>
            <p:nvPr/>
          </p:nvSpPr>
          <p:spPr>
            <a:xfrm>
              <a:off x="2427120" y="4114800"/>
              <a:ext cx="1523880" cy="6220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97400" y="4135320"/>
              <a:ext cx="1192680" cy="5806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-Op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X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291960" y="4200480"/>
            <a:ext cx="416160" cy="711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68280" y="4245120"/>
            <a:ext cx="200160" cy="603000"/>
          </a:xfrm>
          <a:custGeom>
            <a:avLst/>
            <a:gdLst/>
            <a:ahLst/>
            <a:rect l="l" t="t" r="r" b="b"/>
            <a:pathLst>
              <a:path w="347" h="576">
                <a:moveTo>
                  <a:pt x="0" y="0"/>
                </a:moveTo>
                <a:lnTo>
                  <a:pt x="0" y="576"/>
                </a:lnTo>
                <a:lnTo>
                  <a:pt x="347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34880" y="439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07760" y="4267080"/>
            <a:ext cx="501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24600" y="4245120"/>
            <a:ext cx="55800" cy="42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4600" y="4325760"/>
            <a:ext cx="55800" cy="44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24600" y="4406760"/>
            <a:ext cx="55800" cy="460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24600" y="4487760"/>
            <a:ext cx="55800" cy="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600" y="4573440"/>
            <a:ext cx="55800" cy="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24600" y="4656240"/>
            <a:ext cx="55800" cy="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7760" y="4459320"/>
            <a:ext cx="50796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07760" y="4646520"/>
            <a:ext cx="1733400" cy="6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07760" y="4844880"/>
            <a:ext cx="501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2800" y="4221000"/>
            <a:ext cx="558720" cy="254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/E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4199040"/>
            <a:ext cx="415800" cy="711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243320"/>
            <a:ext cx="199800" cy="603360"/>
          </a:xfrm>
          <a:custGeom>
            <a:avLst/>
            <a:gdLst/>
            <a:ahLst/>
            <a:rect l="l" t="t" r="r" b="b"/>
            <a:pathLst>
              <a:path w="347" h="576">
                <a:moveTo>
                  <a:pt x="0" y="0"/>
                </a:moveTo>
                <a:lnTo>
                  <a:pt x="0" y="576"/>
                </a:lnTo>
                <a:lnTo>
                  <a:pt x="347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40560" y="43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49800" y="4265640"/>
            <a:ext cx="501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78640" y="4243320"/>
            <a:ext cx="55440" cy="42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78640" y="4324320"/>
            <a:ext cx="55440" cy="44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78640" y="4405320"/>
            <a:ext cx="55440" cy="460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78640" y="4486320"/>
            <a:ext cx="55440" cy="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78640" y="4572000"/>
            <a:ext cx="55440" cy="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78640" y="4654440"/>
            <a:ext cx="55440" cy="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43680" y="4457880"/>
            <a:ext cx="50796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43440" y="4632480"/>
            <a:ext cx="1708200" cy="18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49800" y="4843440"/>
            <a:ext cx="501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94360" y="4232160"/>
            <a:ext cx="558720" cy="254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/E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58920" y="4343040"/>
            <a:ext cx="11667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49560" y="4343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389320" y="1359000"/>
            <a:ext cx="1523520" cy="850320"/>
            <a:chOff x="2389320" y="1359000"/>
            <a:chExt cx="1523520" cy="850320"/>
          </a:xfrm>
        </p:grpSpPr>
        <p:sp>
          <p:nvSpPr>
            <p:cNvPr id="168" name=""/>
            <p:cNvSpPr/>
            <p:nvPr/>
          </p:nvSpPr>
          <p:spPr>
            <a:xfrm>
              <a:off x="2389320" y="1359000"/>
              <a:ext cx="1523520" cy="8503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10360" y="1386720"/>
              <a:ext cx="108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X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53800" y="1444680"/>
            <a:ext cx="979560" cy="711000"/>
            <a:chOff x="253800" y="1444680"/>
            <a:chExt cx="979560" cy="711000"/>
          </a:xfrm>
        </p:grpSpPr>
        <p:grpSp>
          <p:nvGrpSpPr>
            <p:cNvPr id="171" name=""/>
            <p:cNvGrpSpPr/>
            <p:nvPr/>
          </p:nvGrpSpPr>
          <p:grpSpPr>
            <a:xfrm>
              <a:off x="253800" y="1444680"/>
              <a:ext cx="923760" cy="711000"/>
              <a:chOff x="253800" y="1444680"/>
              <a:chExt cx="923760" cy="71100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253440" y="1444680"/>
                <a:ext cx="415800" cy="711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29760" y="1488960"/>
                <a:ext cx="199800" cy="603360"/>
              </a:xfrm>
              <a:custGeom>
                <a:avLst/>
                <a:gdLst/>
                <a:ahLst/>
                <a:rect l="l" t="t" r="r" b="b"/>
                <a:pathLst>
                  <a:path w="347" h="576">
                    <a:moveTo>
                      <a:pt x="0" y="0"/>
                    </a:moveTo>
                    <a:lnTo>
                      <a:pt x="0" y="576"/>
                    </a:lnTo>
                    <a:lnTo>
                      <a:pt x="347" y="2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396360" y="16365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669960" y="151128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587520" y="1488960"/>
                <a:ext cx="55440" cy="428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587520" y="1569960"/>
                <a:ext cx="55440" cy="44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87520" y="1650960"/>
                <a:ext cx="55440" cy="46080"/>
              </a:xfrm>
              <a:prstGeom prst="rect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587520" y="1731960"/>
                <a:ext cx="55440" cy="4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587520" y="1817640"/>
                <a:ext cx="55440" cy="4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587520" y="1900080"/>
                <a:ext cx="5544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69600" y="1703160"/>
                <a:ext cx="507960" cy="0"/>
              </a:xfrm>
              <a:prstGeom prst="line">
                <a:avLst/>
              </a:prstGeom>
              <a:ln w="572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669960" y="1890720"/>
                <a:ext cx="501840" cy="6120"/>
              </a:xfrm>
              <a:prstGeom prst="line">
                <a:avLst/>
              </a:prstGeom>
              <a:ln w="57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669960" y="208908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74640" y="1465200"/>
              <a:ext cx="558720" cy="253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056200" y="1442880"/>
            <a:ext cx="973080" cy="711000"/>
            <a:chOff x="5056200" y="1442880"/>
            <a:chExt cx="973080" cy="711000"/>
          </a:xfrm>
        </p:grpSpPr>
        <p:grpSp>
          <p:nvGrpSpPr>
            <p:cNvPr id="187" name=""/>
            <p:cNvGrpSpPr/>
            <p:nvPr/>
          </p:nvGrpSpPr>
          <p:grpSpPr>
            <a:xfrm>
              <a:off x="5105520" y="1442880"/>
              <a:ext cx="923760" cy="711000"/>
              <a:chOff x="5105520" y="1442880"/>
              <a:chExt cx="923760" cy="711000"/>
            </a:xfrm>
          </p:grpSpPr>
          <p:sp>
            <p:nvSpPr>
              <p:cNvPr id="188" name=""/>
              <p:cNvSpPr/>
              <p:nvPr/>
            </p:nvSpPr>
            <p:spPr>
              <a:xfrm>
                <a:off x="5613480" y="1442880"/>
                <a:ext cx="415800" cy="711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3160" y="1487160"/>
                <a:ext cx="199800" cy="603360"/>
              </a:xfrm>
              <a:custGeom>
                <a:avLst/>
                <a:gdLst/>
                <a:ahLst/>
                <a:rect l="l" t="t" r="r" b="b"/>
                <a:pathLst>
                  <a:path w="347" h="576">
                    <a:moveTo>
                      <a:pt x="0" y="0"/>
                    </a:moveTo>
                    <a:lnTo>
                      <a:pt x="0" y="576"/>
                    </a:lnTo>
                    <a:lnTo>
                      <a:pt x="347" y="2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02400" y="16347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11280" y="150948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40120" y="1487160"/>
                <a:ext cx="55440" cy="428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40120" y="1568160"/>
                <a:ext cx="55440" cy="44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640120" y="1649160"/>
                <a:ext cx="55440" cy="46080"/>
              </a:xfrm>
              <a:prstGeom prst="rect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40120" y="1730160"/>
                <a:ext cx="55440" cy="4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40120" y="1815840"/>
                <a:ext cx="55440" cy="4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40120" y="1898280"/>
                <a:ext cx="5544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05520" y="1701360"/>
                <a:ext cx="507960" cy="0"/>
              </a:xfrm>
              <a:prstGeom prst="line">
                <a:avLst/>
              </a:prstGeom>
              <a:ln w="572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11280" y="1888920"/>
                <a:ext cx="501840" cy="6120"/>
              </a:xfrm>
              <a:prstGeom prst="line">
                <a:avLst/>
              </a:prstGeom>
              <a:ln w="57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11280" y="208728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056200" y="1476000"/>
              <a:ext cx="558720" cy="254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V="1">
            <a:off x="1220760" y="1587240"/>
            <a:ext cx="11685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36960" y="1574640"/>
            <a:ext cx="1117800" cy="12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87520" y="1474920"/>
            <a:ext cx="304920" cy="2286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/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06840" y="1495440"/>
            <a:ext cx="304920" cy="2286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/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07200" y="2692440"/>
            <a:ext cx="965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832120" y="2540160"/>
            <a:ext cx="622080" cy="620280"/>
            <a:chOff x="2832120" y="2540160"/>
            <a:chExt cx="622080" cy="620280"/>
          </a:xfrm>
        </p:grpSpPr>
        <p:sp>
          <p:nvSpPr>
            <p:cNvPr id="208" name=""/>
            <p:cNvSpPr/>
            <p:nvPr/>
          </p:nvSpPr>
          <p:spPr>
            <a:xfrm>
              <a:off x="2832120" y="2540160"/>
              <a:ext cx="622080" cy="57096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71800" y="2549160"/>
              <a:ext cx="304560" cy="228240"/>
            </a:xfrm>
            <a:prstGeom prst="rect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44440" y="2792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984400" y="1982880"/>
            <a:ext cx="304920" cy="2286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/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7040" y="222264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2880" y="5105520"/>
            <a:ext cx="622080" cy="620280"/>
            <a:chOff x="2882880" y="5105520"/>
            <a:chExt cx="622080" cy="620280"/>
          </a:xfrm>
        </p:grpSpPr>
        <p:sp>
          <p:nvSpPr>
            <p:cNvPr id="214" name=""/>
            <p:cNvSpPr/>
            <p:nvPr/>
          </p:nvSpPr>
          <p:spPr>
            <a:xfrm>
              <a:off x="2882880" y="5105520"/>
              <a:ext cx="622080" cy="57096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22560" y="5114520"/>
              <a:ext cx="304560" cy="228240"/>
            </a:xfrm>
            <a:prstGeom prst="rect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95200" y="53575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00400" y="47498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40760" y="5207040"/>
            <a:ext cx="1009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56920" y="4992840"/>
            <a:ext cx="374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serves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duces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67200" y="360216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39400" y="96696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44680" y="220824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ET/wrapper fra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171880" y="4749840"/>
            <a:ext cx="699480" cy="975960"/>
            <a:chOff x="2171880" y="4749840"/>
            <a:chExt cx="699480" cy="975960"/>
          </a:xfrm>
        </p:grpSpPr>
        <p:grpSp>
          <p:nvGrpSpPr>
            <p:cNvPr id="224" name=""/>
            <p:cNvGrpSpPr/>
            <p:nvPr/>
          </p:nvGrpSpPr>
          <p:grpSpPr>
            <a:xfrm>
              <a:off x="2171880" y="5118120"/>
              <a:ext cx="699480" cy="607680"/>
              <a:chOff x="2171880" y="5118120"/>
              <a:chExt cx="699480" cy="6076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71880" y="5118120"/>
                <a:ext cx="622440" cy="57096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11560" y="5127480"/>
                <a:ext cx="304920" cy="228240"/>
              </a:xfrm>
              <a:prstGeom prst="rect">
                <a:avLst/>
              </a:prstGeom>
              <a:solidFill>
                <a:srgbClr val="33cc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83040" y="5357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Arial"/>
                  </a:rPr>
                  <a:t>Gi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540160" y="47498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ED2-9C4D-409A-B7A8-D62DACF17615}" type="slidenum">
              <a:t>4</a:t>
            </a:fld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Optical Network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control &amp; management (incl. protection) of lightpath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-to-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equipment from multiple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client-layer equipment (e.g. routers) to provision optical layer lightpa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st-effective deployment of flexibl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optical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rotocol networks (ESCON, Gig E, Fiber Channel, SO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uture-proof signaling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14320" y="548640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Focus on Signaling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544-28A8-4B51-96C6-1FE3EEB23C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for Signaling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optical network elements have no access into digital wrapper or SONET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equipment (e.g., routers) may not support wra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-network-ignorant framing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oom for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ig E, Fiber Channel, ES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l with legacy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and cost-effective migration path to support open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around elements that don’t support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Drives need for out-of-band signaling to complement digital wrappe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017-5205-4ACA-A879-54BA0ACC74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 out-of-band signaling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terface for NNI/UNI to complement digital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it compatible with digital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information conveyed in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information mapped from wrapper into OBS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use of overheads and signal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room for additional bandwidth for supporting futu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and OBS coexist in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491-8D53-427E-BAAC-2D8791E2E8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ing Configura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569360" y="2184480"/>
            <a:ext cx="1066680" cy="1003320"/>
            <a:chOff x="7569360" y="2184480"/>
            <a:chExt cx="1066680" cy="1003320"/>
          </a:xfrm>
        </p:grpSpPr>
        <p:sp>
          <p:nvSpPr>
            <p:cNvPr id="238" name=""/>
            <p:cNvSpPr/>
            <p:nvPr/>
          </p:nvSpPr>
          <p:spPr>
            <a:xfrm>
              <a:off x="7569360" y="2184480"/>
              <a:ext cx="1066680" cy="10033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28040" y="234144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39000" y="2347560"/>
              <a:ext cx="503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42280" y="299448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365680" y="233568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862760" y="2341440"/>
              <a:ext cx="503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51800" y="298872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108840" y="2311560"/>
            <a:ext cx="1460160" cy="790560"/>
            <a:chOff x="6108840" y="2311560"/>
            <a:chExt cx="1460160" cy="790560"/>
          </a:xfrm>
        </p:grpSpPr>
        <p:sp>
          <p:nvSpPr>
            <p:cNvPr id="246" name=""/>
            <p:cNvSpPr/>
            <p:nvPr/>
          </p:nvSpPr>
          <p:spPr>
            <a:xfrm flipH="1">
              <a:off x="6108840" y="234936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195240" y="239544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489720" y="23954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489720" y="24829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489720" y="25653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489720" y="26496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489720" y="27399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489720" y="28224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583320" y="2417760"/>
              <a:ext cx="985680" cy="603360"/>
              <a:chOff x="6583320" y="2417760"/>
              <a:chExt cx="985680" cy="60336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6583320" y="241776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583320" y="2619360"/>
                <a:ext cx="985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583320" y="2816280"/>
                <a:ext cx="97200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583320" y="302112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589800" y="2311560"/>
              <a:ext cx="492120" cy="790560"/>
              <a:chOff x="6589800" y="2311560"/>
              <a:chExt cx="492120" cy="790560"/>
            </a:xfrm>
          </p:grpSpPr>
          <p:sp>
            <p:nvSpPr>
              <p:cNvPr id="260" name=""/>
              <p:cNvSpPr/>
              <p:nvPr/>
            </p:nvSpPr>
            <p:spPr>
              <a:xfrm>
                <a:off x="6589800" y="23115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89800" y="25272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589800" y="27432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589800" y="29336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534240" y="2324160"/>
            <a:ext cx="1459800" cy="790560"/>
            <a:chOff x="534240" y="2324160"/>
            <a:chExt cx="1459800" cy="790560"/>
          </a:xfrm>
        </p:grpSpPr>
        <p:sp>
          <p:nvSpPr>
            <p:cNvPr id="265" name=""/>
            <p:cNvSpPr/>
            <p:nvPr/>
          </p:nvSpPr>
          <p:spPr>
            <a:xfrm>
              <a:off x="1519200" y="2336760"/>
              <a:ext cx="47484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77960" y="238284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49440" y="23828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49440" y="24703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49440" y="25527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9440" y="26370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49440" y="27273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49440" y="28098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4240" y="2405160"/>
              <a:ext cx="985320" cy="603360"/>
              <a:chOff x="534240" y="2405160"/>
              <a:chExt cx="985320" cy="603360"/>
            </a:xfrm>
          </p:grpSpPr>
          <p:sp>
            <p:nvSpPr>
              <p:cNvPr id="274" name=""/>
              <p:cNvSpPr/>
              <p:nvPr/>
            </p:nvSpPr>
            <p:spPr>
              <a:xfrm>
                <a:off x="547920" y="240516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4240" y="2606760"/>
                <a:ext cx="985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7920" y="2803680"/>
                <a:ext cx="97164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7920" y="300852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52640" y="2324160"/>
              <a:ext cx="492120" cy="790560"/>
              <a:chOff x="1052640" y="2324160"/>
              <a:chExt cx="492120" cy="790560"/>
            </a:xfrm>
          </p:grpSpPr>
          <p:sp>
            <p:nvSpPr>
              <p:cNvPr id="279" name=""/>
              <p:cNvSpPr/>
              <p:nvPr/>
            </p:nvSpPr>
            <p:spPr>
              <a:xfrm>
                <a:off x="1052640" y="23241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52640" y="25398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52640" y="27558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52640" y="29462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1143000" y="3720960"/>
            <a:ext cx="1828800" cy="64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66920" y="383688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igital wr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94040" y="267984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70504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20000" y="30243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83560" y="32274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99760" y="30495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nd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94600" y="484020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All network elements support digital wrap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BS is ign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305960" y="2324160"/>
            <a:ext cx="1459800" cy="790560"/>
            <a:chOff x="4305960" y="2324160"/>
            <a:chExt cx="1459800" cy="790560"/>
          </a:xfrm>
        </p:grpSpPr>
        <p:sp>
          <p:nvSpPr>
            <p:cNvPr id="292" name=""/>
            <p:cNvSpPr/>
            <p:nvPr/>
          </p:nvSpPr>
          <p:spPr>
            <a:xfrm>
              <a:off x="5290920" y="2336760"/>
              <a:ext cx="47484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49680" y="238284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21160" y="238284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21160" y="247032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21160" y="255276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21160" y="263700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21160" y="272736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21160" y="28098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305960" y="2405160"/>
              <a:ext cx="985320" cy="603360"/>
              <a:chOff x="4305960" y="2405160"/>
              <a:chExt cx="985320" cy="603360"/>
            </a:xfrm>
          </p:grpSpPr>
          <p:sp>
            <p:nvSpPr>
              <p:cNvPr id="301" name=""/>
              <p:cNvSpPr/>
              <p:nvPr/>
            </p:nvSpPr>
            <p:spPr>
              <a:xfrm>
                <a:off x="4319640" y="240516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05960" y="2606760"/>
                <a:ext cx="985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19640" y="2803680"/>
                <a:ext cx="97164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319640" y="3008520"/>
                <a:ext cx="97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24360" y="2324160"/>
              <a:ext cx="492120" cy="790560"/>
              <a:chOff x="4824360" y="2324160"/>
              <a:chExt cx="492120" cy="790560"/>
            </a:xfrm>
          </p:grpSpPr>
          <p:sp>
            <p:nvSpPr>
              <p:cNvPr id="306" name=""/>
              <p:cNvSpPr/>
              <p:nvPr/>
            </p:nvSpPr>
            <p:spPr>
              <a:xfrm>
                <a:off x="4824360" y="232416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24360" y="253980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24360" y="27558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24360" y="29462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317680" y="2273400"/>
            <a:ext cx="1460160" cy="790560"/>
            <a:chOff x="2317680" y="2273400"/>
            <a:chExt cx="1460160" cy="790560"/>
          </a:xfrm>
        </p:grpSpPr>
        <p:sp>
          <p:nvSpPr>
            <p:cNvPr id="311" name=""/>
            <p:cNvSpPr/>
            <p:nvPr/>
          </p:nvSpPr>
          <p:spPr>
            <a:xfrm flipH="1">
              <a:off x="2317680" y="2311200"/>
              <a:ext cx="474480" cy="74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404080" y="2357280"/>
              <a:ext cx="228600" cy="62892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0" y="0"/>
                  </a:moveTo>
                  <a:lnTo>
                    <a:pt x="0" y="576"/>
                  </a:lnTo>
                  <a:lnTo>
                    <a:pt x="347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698560" y="2357280"/>
              <a:ext cx="63360" cy="44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698560" y="2444760"/>
              <a:ext cx="63360" cy="4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698560" y="2527200"/>
              <a:ext cx="63360" cy="493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698560" y="2611440"/>
              <a:ext cx="63360" cy="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698560" y="270180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698560" y="2784240"/>
              <a:ext cx="6336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792160" y="2379600"/>
              <a:ext cx="985680" cy="603360"/>
              <a:chOff x="2792160" y="2379600"/>
              <a:chExt cx="985680" cy="603360"/>
            </a:xfrm>
          </p:grpSpPr>
          <p:sp>
            <p:nvSpPr>
              <p:cNvPr id="320" name=""/>
              <p:cNvSpPr/>
              <p:nvPr/>
            </p:nvSpPr>
            <p:spPr>
              <a:xfrm flipH="1">
                <a:off x="2792160" y="237960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2792160" y="2581200"/>
                <a:ext cx="985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792160" y="2778120"/>
                <a:ext cx="97200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792160" y="2982960"/>
                <a:ext cx="97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798640" y="2273400"/>
              <a:ext cx="492120" cy="790560"/>
              <a:chOff x="2798640" y="2273400"/>
              <a:chExt cx="492120" cy="790560"/>
            </a:xfrm>
          </p:grpSpPr>
          <p:sp>
            <p:nvSpPr>
              <p:cNvPr id="325" name=""/>
              <p:cNvSpPr/>
              <p:nvPr/>
            </p:nvSpPr>
            <p:spPr>
              <a:xfrm>
                <a:off x="2798640" y="227340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98640" y="248904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98640" y="2705040"/>
                <a:ext cx="492120" cy="1681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98640" y="2895480"/>
                <a:ext cx="492120" cy="1684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/E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3581280" y="2184480"/>
            <a:ext cx="1066680" cy="1003320"/>
            <a:chOff x="3581280" y="2184480"/>
            <a:chExt cx="1066680" cy="1003320"/>
          </a:xfrm>
        </p:grpSpPr>
        <p:sp>
          <p:nvSpPr>
            <p:cNvPr id="330" name=""/>
            <p:cNvSpPr/>
            <p:nvPr/>
          </p:nvSpPr>
          <p:spPr>
            <a:xfrm>
              <a:off x="3581280" y="2184480"/>
              <a:ext cx="1066680" cy="10033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9960" y="234144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50920" y="2347560"/>
              <a:ext cx="503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54200" y="299448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4377600" y="233568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874680" y="2341440"/>
              <a:ext cx="503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663720" y="298872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035160" y="3733920"/>
            <a:ext cx="9655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60880" y="3720960"/>
            <a:ext cx="1746360" cy="12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720960"/>
            <a:ext cx="1339560" cy="64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6640" y="3733920"/>
            <a:ext cx="990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1581120"/>
            <a:ext cx="0" cy="723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05480" y="1619280"/>
            <a:ext cx="0" cy="723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81720" y="1657440"/>
            <a:ext cx="0" cy="723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95720" y="1486080"/>
            <a:ext cx="0" cy="7236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34200" y="1486080"/>
            <a:ext cx="0" cy="7236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33400" y="1619280"/>
            <a:ext cx="0" cy="723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54640" y="15699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7B8-B4F2-41B8-B19D-B0151CD1A4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ing Configura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553080" y="2184480"/>
            <a:ext cx="1066680" cy="1003320"/>
            <a:chOff x="6553080" y="2184480"/>
            <a:chExt cx="1066680" cy="1003320"/>
          </a:xfrm>
        </p:grpSpPr>
        <p:sp>
          <p:nvSpPr>
            <p:cNvPr id="350" name=""/>
            <p:cNvSpPr/>
            <p:nvPr/>
          </p:nvSpPr>
          <p:spPr>
            <a:xfrm>
              <a:off x="6553080" y="2184480"/>
              <a:ext cx="1066680" cy="10033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11760" y="234144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22720" y="2347560"/>
              <a:ext cx="503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26000" y="299448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349400" y="2335680"/>
              <a:ext cx="211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846480" y="2341440"/>
              <a:ext cx="503280" cy="64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635520" y="2988720"/>
              <a:ext cx="210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3403440" y="2742840"/>
            <a:ext cx="20955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091840" y="2349360"/>
            <a:ext cx="474840" cy="743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179320" y="2395440"/>
            <a:ext cx="228600" cy="628920"/>
          </a:xfrm>
          <a:custGeom>
            <a:avLst/>
            <a:gdLst/>
            <a:ahLst/>
            <a:rect l="l" t="t" r="r" b="b"/>
            <a:pathLst>
              <a:path w="347" h="576">
                <a:moveTo>
                  <a:pt x="0" y="0"/>
                </a:moveTo>
                <a:lnTo>
                  <a:pt x="0" y="576"/>
                </a:lnTo>
                <a:lnTo>
                  <a:pt x="347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473800" y="2395440"/>
            <a:ext cx="63360" cy="44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473800" y="2482920"/>
            <a:ext cx="63360" cy="4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473800" y="2565360"/>
            <a:ext cx="63360" cy="49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473800" y="2649600"/>
            <a:ext cx="63360" cy="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473800" y="2739960"/>
            <a:ext cx="6336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473800" y="2822400"/>
            <a:ext cx="6336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90800" y="2349360"/>
            <a:ext cx="474840" cy="743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9560" y="2395440"/>
            <a:ext cx="228600" cy="628920"/>
          </a:xfrm>
          <a:custGeom>
            <a:avLst/>
            <a:gdLst/>
            <a:ahLst/>
            <a:rect l="l" t="t" r="r" b="b"/>
            <a:pathLst>
              <a:path w="347" h="576">
                <a:moveTo>
                  <a:pt x="0" y="0"/>
                </a:moveTo>
                <a:lnTo>
                  <a:pt x="0" y="576"/>
                </a:lnTo>
                <a:lnTo>
                  <a:pt x="347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21040" y="2395440"/>
            <a:ext cx="63360" cy="44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1040" y="2482920"/>
            <a:ext cx="63360" cy="4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21040" y="2565360"/>
            <a:ext cx="63360" cy="49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21040" y="2649600"/>
            <a:ext cx="63360" cy="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21040" y="2739960"/>
            <a:ext cx="6336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21040" y="2822400"/>
            <a:ext cx="6336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905840" y="2417760"/>
            <a:ext cx="985320" cy="603360"/>
            <a:chOff x="1905840" y="2417760"/>
            <a:chExt cx="985320" cy="603360"/>
          </a:xfrm>
        </p:grpSpPr>
        <p:sp>
          <p:nvSpPr>
            <p:cNvPr id="375" name=""/>
            <p:cNvSpPr/>
            <p:nvPr/>
          </p:nvSpPr>
          <p:spPr>
            <a:xfrm>
              <a:off x="1919520" y="2417760"/>
              <a:ext cx="9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05840" y="2619360"/>
              <a:ext cx="985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19520" y="2816280"/>
              <a:ext cx="971640" cy="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19520" y="3021120"/>
              <a:ext cx="9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768240" y="4413240"/>
            <a:ext cx="736560" cy="4597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18320" y="4140360"/>
            <a:ext cx="736560" cy="4597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36520" y="3168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99200" y="3213000"/>
            <a:ext cx="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07240" y="3225960"/>
            <a:ext cx="0" cy="9144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7320" y="3138480"/>
            <a:ext cx="14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-o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76440" y="2859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16920" y="346860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ut-of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567040" y="2417760"/>
            <a:ext cx="985320" cy="603360"/>
            <a:chOff x="5567040" y="2417760"/>
            <a:chExt cx="985320" cy="603360"/>
          </a:xfrm>
        </p:grpSpPr>
        <p:sp>
          <p:nvSpPr>
            <p:cNvPr id="388" name=""/>
            <p:cNvSpPr/>
            <p:nvPr/>
          </p:nvSpPr>
          <p:spPr>
            <a:xfrm flipH="1">
              <a:off x="5567040" y="2417760"/>
              <a:ext cx="9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567040" y="2619360"/>
              <a:ext cx="985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567040" y="2816280"/>
              <a:ext cx="971640" cy="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567040" y="3021120"/>
              <a:ext cx="9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573880" y="2311560"/>
            <a:ext cx="492120" cy="790560"/>
            <a:chOff x="5573880" y="2311560"/>
            <a:chExt cx="492120" cy="790560"/>
          </a:xfrm>
        </p:grpSpPr>
        <p:sp>
          <p:nvSpPr>
            <p:cNvPr id="393" name=""/>
            <p:cNvSpPr/>
            <p:nvPr/>
          </p:nvSpPr>
          <p:spPr>
            <a:xfrm>
              <a:off x="5573880" y="2311560"/>
              <a:ext cx="492120" cy="16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3880" y="2527200"/>
              <a:ext cx="492120" cy="168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3880" y="2743200"/>
              <a:ext cx="492120" cy="16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3880" y="2933640"/>
              <a:ext cx="492120" cy="168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424240" y="2336760"/>
            <a:ext cx="492120" cy="790560"/>
            <a:chOff x="2424240" y="2336760"/>
            <a:chExt cx="492120" cy="790560"/>
          </a:xfrm>
        </p:grpSpPr>
        <p:sp>
          <p:nvSpPr>
            <p:cNvPr id="398" name=""/>
            <p:cNvSpPr/>
            <p:nvPr/>
          </p:nvSpPr>
          <p:spPr>
            <a:xfrm>
              <a:off x="2424240" y="2336760"/>
              <a:ext cx="492120" cy="16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24240" y="2552400"/>
              <a:ext cx="492120" cy="168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24240" y="2768400"/>
              <a:ext cx="492120" cy="16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24240" y="2958840"/>
              <a:ext cx="492120" cy="168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/E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523880" y="1943280"/>
            <a:ext cx="1587600" cy="393480"/>
            <a:chOff x="1523880" y="1943280"/>
            <a:chExt cx="1587600" cy="393480"/>
          </a:xfrm>
        </p:grpSpPr>
        <p:sp>
          <p:nvSpPr>
            <p:cNvPr id="403" name=""/>
            <p:cNvSpPr/>
            <p:nvPr/>
          </p:nvSpPr>
          <p:spPr>
            <a:xfrm flipV="1">
              <a:off x="3085920" y="195588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3880" y="1943280"/>
              <a:ext cx="15876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3880" y="19432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528920" y="141120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ut-of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92440" y="3416400"/>
            <a:ext cx="3149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54320" y="34560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igital wr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71640" y="3193920"/>
            <a:ext cx="0" cy="12193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38080" y="2165400"/>
            <a:ext cx="1066680" cy="1003320"/>
            <a:chOff x="838080" y="2165400"/>
            <a:chExt cx="1066680" cy="1003320"/>
          </a:xfrm>
        </p:grpSpPr>
        <p:sp>
          <p:nvSpPr>
            <p:cNvPr id="411" name=""/>
            <p:cNvSpPr/>
            <p:nvPr/>
          </p:nvSpPr>
          <p:spPr>
            <a:xfrm>
              <a:off x="838080" y="2165400"/>
              <a:ext cx="1066680" cy="10033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96400" y="232236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07360" y="2328840"/>
              <a:ext cx="502200" cy="646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09920" y="297504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635120" y="231624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1132200" y="2322360"/>
              <a:ext cx="5022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21600" y="2970000"/>
              <a:ext cx="21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725240" y="2205000"/>
            <a:ext cx="14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90080" y="516420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lient equipment does not support digital wrap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353200" y="3962520"/>
            <a:ext cx="1257120" cy="1257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03920" y="3416400"/>
            <a:ext cx="86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11400" y="390060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Out-of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9920" y="567216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All-optical  equipment does not support digital wrap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380520" y="3936600"/>
            <a:ext cx="419400" cy="1739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8280" y="2742840"/>
            <a:ext cx="432000" cy="1206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F8D-3375-4927-9EAB-2B320CCA3D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31T14:45:20Z</dcterms:created>
  <dc:creator>Preferred Customer</dc:creator>
  <dc:description/>
  <dc:language>en-US</dc:language>
  <cp:lastModifiedBy>Rajiv Ramaswami</cp:lastModifiedBy>
  <cp:lastPrinted>1999-09-22T18:49:18Z</cp:lastPrinted>
  <dcterms:modified xsi:type="dcterms:W3CDTF">2000-01-24T17:05:51Z</dcterms:modified>
  <cp:revision>675</cp:revision>
  <dc:subject/>
  <dc:title>ros, Inc. xros (k  rs) n. {Gk}  Something whose time has come; propitious or opportune moment.</dc:title>
</cp:coreProperties>
</file>