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069-080F-4768-9742-065277F9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224-FEA5-4656-B7B7-2F630BEC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1D6-8D7A-46EA-99D1-4511FD43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87D-0D4B-49ED-AE77-071DF051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9762-2D01-4F8D-8E4A-E7220974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66D7-7C07-44DD-882B-2A4B64F0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7E2C-97A4-4E4C-9E91-E1C4145B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8690-AC5B-442B-9DF5-9085F5A4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574F-4C2A-408C-A88F-42E46A3D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3597-EFEE-4533-A5E9-6CCFFE8B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B851-D8AC-431B-A061-2635C883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F13-FC38-47DF-B7DB-981C89E3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5E48-4E62-4429-AB4D-7234E0A8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0F5B-8224-4131-BBF7-7A73B4FE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481E-B752-4040-BFD5-43A6BC36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AC0B-7012-4FB0-9D5B-94172F70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AE32-621F-4DE3-ADDE-EE46BD4E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5EE-2906-41CD-87FC-7985694A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70F-73BD-4417-B306-02565E7E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925-7DDF-4A5A-8DAB-0FBB39D7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1EF-AF9A-41FB-95B5-9ABFB788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7FE-0E38-4B8F-94FD-2B8CFAEE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AA9-A28C-4C27-B4EE-9A11E9B1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033-9A24-4459-BFB8-0405D244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latehead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cal Internetworkimg For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ember 3,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CFB5-59AD-4ADA-8F69-348371452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848720" y="6427080"/>
            <a:ext cx="1249200" cy="367200"/>
            <a:chOff x="7848720" y="6427080"/>
            <a:chExt cx="1249200" cy="367200"/>
          </a:xfrm>
        </p:grpSpPr>
        <p:grpSp>
          <p:nvGrpSpPr>
            <p:cNvPr id="6" name=""/>
            <p:cNvGrpSpPr/>
            <p:nvPr/>
          </p:nvGrpSpPr>
          <p:grpSpPr>
            <a:xfrm>
              <a:off x="7848720" y="6498360"/>
              <a:ext cx="1063080" cy="295920"/>
              <a:chOff x="7848720" y="6498360"/>
              <a:chExt cx="1063080" cy="295920"/>
            </a:xfrm>
          </p:grpSpPr>
          <p:sp>
            <p:nvSpPr>
              <p:cNvPr id="7" name=""/>
              <p:cNvSpPr/>
              <p:nvPr/>
            </p:nvSpPr>
            <p:spPr>
              <a:xfrm>
                <a:off x="7848720" y="6502680"/>
                <a:ext cx="1017720" cy="28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" name=""/>
              <p:cNvGraphicFramePr/>
              <p:nvPr/>
            </p:nvGraphicFramePr>
            <p:xfrm>
              <a:off x="7848720" y="6498360"/>
              <a:ext cx="1063080" cy="295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48720" y="6498360"/>
                        <a:ext cx="1063080" cy="29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" name=""/>
            <p:cNvSpPr/>
            <p:nvPr/>
          </p:nvSpPr>
          <p:spPr>
            <a:xfrm>
              <a:off x="8842680" y="6427080"/>
              <a:ext cx="25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%20Background%20new" descr=""/>
          <p:cNvPicPr/>
          <p:nvPr/>
        </p:nvPicPr>
        <p:blipFill>
          <a:blip r:embed="rId2"/>
          <a:srcRect l="0" t="0" r="75004" b="0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4BB4-2C4E-4E09-B1B9-B61AD1707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371600" y="151560"/>
            <a:ext cx="3509640" cy="895680"/>
            <a:chOff x="1371600" y="151560"/>
            <a:chExt cx="3509640" cy="895680"/>
          </a:xfrm>
        </p:grpSpPr>
        <p:grpSp>
          <p:nvGrpSpPr>
            <p:cNvPr id="54" name=""/>
            <p:cNvGrpSpPr/>
            <p:nvPr/>
          </p:nvGrpSpPr>
          <p:grpSpPr>
            <a:xfrm>
              <a:off x="1371600" y="220680"/>
              <a:ext cx="3276360" cy="826560"/>
              <a:chOff x="1371600" y="220680"/>
              <a:chExt cx="3276360" cy="826560"/>
            </a:xfrm>
          </p:grpSpPr>
          <p:sp>
            <p:nvSpPr>
              <p:cNvPr id="55" name=""/>
              <p:cNvSpPr/>
              <p:nvPr/>
            </p:nvSpPr>
            <p:spPr>
              <a:xfrm>
                <a:off x="1371600" y="233280"/>
                <a:ext cx="3136320" cy="80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6" name=""/>
              <p:cNvGraphicFramePr/>
              <p:nvPr/>
            </p:nvGraphicFramePr>
            <p:xfrm>
              <a:off x="1371600" y="220680"/>
              <a:ext cx="3276360" cy="826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71600" y="220680"/>
                        <a:ext cx="3276360" cy="82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8" name=""/>
            <p:cNvSpPr/>
            <p:nvPr/>
          </p:nvSpPr>
          <p:spPr>
            <a:xfrm>
              <a:off x="4587840" y="15156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923760" y="1330200"/>
          <a:ext cx="7317000" cy="50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330200"/>
                    <a:ext cx="731700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layer protocol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mapping into SONET (P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 mapped into S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GENet* (W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ET private lin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connection rearran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 Services - End-User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0600" y="5991120"/>
            <a:ext cx="48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nvergence with SONET is achie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 Services - End-User Viewpoint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guaran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easur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l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notification of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 of defects between user domain and service provider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survivabl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able UNI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able network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 Physical 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wavelength optical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neration simplifies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H/SONET fr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atenated or channe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hannels can be routed to different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 compatibility with SDH T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G isn’t that far in the fut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communications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SDH overhead or out-of-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quired OAM&amp;P Functions at UN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discovery of and identification of equipment at either side of 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ing for connec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of connection conti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lt and defect notification across 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lt and defect localization across 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DH Framed UN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H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H Regenerator Section 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H Multiplex Section 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DH Transparent UN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d when needed to avoid interoperability problems with SDH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intrusive monitoring of 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intrusive monitoring of J0 if ena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miting of all 3 U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DH Regenerator Section Ter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non-reconfigurable DW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mes coordination of management across 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sions and monitors J0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s and resets 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S signal generation at loss of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limited to 1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DH Multiplex Section Ter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reconfigurable optical networking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ing based connec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protection mechanisms at 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+1; M:N linear 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M multiplexing to higher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ion and routing of TDM sub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2 for performanc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361960"/>
            <a:ext cx="6781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rements for SDH framed UN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71600" y="151560"/>
            <a:ext cx="3509640" cy="895680"/>
            <a:chOff x="1371600" y="151560"/>
            <a:chExt cx="3509640" cy="895680"/>
          </a:xfrm>
        </p:grpSpPr>
        <p:grpSp>
          <p:nvGrpSpPr>
            <p:cNvPr id="100" name=""/>
            <p:cNvGrpSpPr/>
            <p:nvPr/>
          </p:nvGrpSpPr>
          <p:grpSpPr>
            <a:xfrm>
              <a:off x="1371600" y="220680"/>
              <a:ext cx="3276360" cy="826560"/>
              <a:chOff x="1371600" y="220680"/>
              <a:chExt cx="3276360" cy="826560"/>
            </a:xfrm>
          </p:grpSpPr>
          <p:sp>
            <p:nvSpPr>
              <p:cNvPr id="101" name=""/>
              <p:cNvSpPr/>
              <p:nvPr/>
            </p:nvSpPr>
            <p:spPr>
              <a:xfrm>
                <a:off x="1371600" y="233280"/>
                <a:ext cx="3136320" cy="80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2" name=""/>
              <p:cNvGraphicFramePr/>
              <p:nvPr/>
            </p:nvGraphicFramePr>
            <p:xfrm>
              <a:off x="1371600" y="220680"/>
              <a:ext cx="3276360" cy="826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220680"/>
                        <a:ext cx="3276360" cy="82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4" name=""/>
            <p:cNvSpPr/>
            <p:nvPr/>
          </p:nvSpPr>
          <p:spPr>
            <a:xfrm>
              <a:off x="4587840" y="15156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6294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IF Architecture Gro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im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cember 3, 199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 services - end-user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 physical layer architectur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 OAM&amp;P functional requirements from an architectur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3 SDH based U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osed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Internetwork elemen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lements with high-rat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WDM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network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term problem to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ways to manage long distance, line-rate connections between data network elements that are carried across DWDM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new contribution of the O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to automate control of optic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cal Network Reference Diagra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ck Bar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295280"/>
            <a:ext cx="6476760" cy="426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562720"/>
            <a:ext cx="533160" cy="4572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1295280"/>
            <a:ext cx="533520" cy="4572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066680"/>
            <a:ext cx="533160" cy="4572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5410080"/>
            <a:ext cx="533520" cy="4572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23880"/>
            <a:ext cx="19810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371600" y="48002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171840" y="16765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943600" y="4952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447920" y="16761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5181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1676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315200" y="51051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22860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1280" y="533412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4000" y="487692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4960" y="144792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30480" y="137160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30280" y="579132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61200" y="13716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Vend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3657600"/>
            <a:ext cx="1295280" cy="1295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.8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1981080"/>
            <a:ext cx="3124080" cy="1295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ptical I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91120" y="3505320"/>
            <a:ext cx="414000" cy="380520"/>
            <a:chOff x="4191120" y="3505320"/>
            <a:chExt cx="414000" cy="380520"/>
          </a:xfrm>
        </p:grpSpPr>
        <p:sp>
          <p:nvSpPr>
            <p:cNvPr id="136" name=""/>
            <p:cNvSpPr/>
            <p:nvPr/>
          </p:nvSpPr>
          <p:spPr>
            <a:xfrm>
              <a:off x="4191120" y="3505320"/>
              <a:ext cx="414000" cy="38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09920" y="360216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309560" y="360216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227120" y="360216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475520" y="379548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227120" y="379548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75520" y="360216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81520" y="3505320"/>
            <a:ext cx="414000" cy="380520"/>
            <a:chOff x="5681520" y="3505320"/>
            <a:chExt cx="414000" cy="380520"/>
          </a:xfrm>
        </p:grpSpPr>
        <p:sp>
          <p:nvSpPr>
            <p:cNvPr id="144" name=""/>
            <p:cNvSpPr/>
            <p:nvPr/>
          </p:nvSpPr>
          <p:spPr>
            <a:xfrm>
              <a:off x="5681520" y="3505320"/>
              <a:ext cx="414000" cy="38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00320" y="360216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799960" y="360216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717520" y="360216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965920" y="379548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717520" y="379548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965920" y="360216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09680" y="2971800"/>
            <a:ext cx="414000" cy="380520"/>
            <a:chOff x="2209680" y="2971800"/>
            <a:chExt cx="414000" cy="380520"/>
          </a:xfrm>
        </p:grpSpPr>
        <p:sp>
          <p:nvSpPr>
            <p:cNvPr id="152" name=""/>
            <p:cNvSpPr/>
            <p:nvPr/>
          </p:nvSpPr>
          <p:spPr>
            <a:xfrm>
              <a:off x="2209680" y="2971800"/>
              <a:ext cx="414000" cy="38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28480" y="306864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328120" y="306864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245680" y="306864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494080" y="326196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245680" y="326196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494080" y="306864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629400" y="2286000"/>
            <a:ext cx="414000" cy="380520"/>
            <a:chOff x="6629400" y="2286000"/>
            <a:chExt cx="414000" cy="380520"/>
          </a:xfrm>
        </p:grpSpPr>
        <p:sp>
          <p:nvSpPr>
            <p:cNvPr id="160" name=""/>
            <p:cNvSpPr/>
            <p:nvPr/>
          </p:nvSpPr>
          <p:spPr>
            <a:xfrm>
              <a:off x="6629400" y="2286000"/>
              <a:ext cx="414000" cy="38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48200" y="238284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747840" y="238284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665400" y="238284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913800" y="257616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665400" y="257616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913800" y="238284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886200" y="4343400"/>
            <a:ext cx="114300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4343400"/>
            <a:ext cx="114300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4343400"/>
            <a:ext cx="114300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4300560"/>
            <a:ext cx="763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06880" y="4289400"/>
            <a:ext cx="763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37280" y="4289400"/>
            <a:ext cx="763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23040" y="4289400"/>
            <a:ext cx="763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44960" y="2505240"/>
            <a:ext cx="759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514600"/>
            <a:ext cx="763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4343400" y="3200400"/>
            <a:ext cx="763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5829120" y="3009960"/>
            <a:ext cx="759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3009240" y="3543120"/>
            <a:ext cx="763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1523880"/>
            <a:ext cx="1218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447920" y="21333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4080" y="220968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590920" y="28954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54400" y="2809800"/>
            <a:ext cx="763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33526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4197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867280" y="3123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400800" y="25146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209680"/>
            <a:ext cx="763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2819520"/>
            <a:ext cx="763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28954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9800" y="251460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4375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8880" y="4419720"/>
            <a:ext cx="2286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562720" y="4724280"/>
            <a:ext cx="414000" cy="380880"/>
            <a:chOff x="5562720" y="4724280"/>
            <a:chExt cx="414000" cy="380880"/>
          </a:xfrm>
        </p:grpSpPr>
        <p:sp>
          <p:nvSpPr>
            <p:cNvPr id="195" name=""/>
            <p:cNvSpPr/>
            <p:nvPr/>
          </p:nvSpPr>
          <p:spPr>
            <a:xfrm>
              <a:off x="5562720" y="4724280"/>
              <a:ext cx="4140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81520" y="482112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681160" y="482112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598720" y="482112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847120" y="501480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598720" y="501480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47120" y="482112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02920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4724280"/>
            <a:ext cx="763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3809880"/>
            <a:ext cx="7596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657600" y="37339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886200" y="3886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3886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6553080"/>
            <a:ext cx="763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080" y="64612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-optic co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2360" y="6324480"/>
            <a:ext cx="428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or optical cross-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/ or w/o SONET functionality.  Other functionality also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81280" y="6400800"/>
            <a:ext cx="414000" cy="380520"/>
            <a:chOff x="3581280" y="6400800"/>
            <a:chExt cx="414000" cy="380520"/>
          </a:xfrm>
        </p:grpSpPr>
        <p:sp>
          <p:nvSpPr>
            <p:cNvPr id="213" name=""/>
            <p:cNvSpPr/>
            <p:nvPr/>
          </p:nvSpPr>
          <p:spPr>
            <a:xfrm>
              <a:off x="3581280" y="6400800"/>
              <a:ext cx="414000" cy="38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00080" y="649764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699720" y="6497640"/>
              <a:ext cx="165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617280" y="649764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865680" y="669096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617280" y="669096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865680" y="649764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cal Internetwork Reference Diagra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ck Bar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9480" y="1295280"/>
            <a:ext cx="7848720" cy="4953240"/>
            <a:chOff x="609480" y="1295280"/>
            <a:chExt cx="7848720" cy="4953240"/>
          </a:xfrm>
        </p:grpSpPr>
        <p:sp>
          <p:nvSpPr>
            <p:cNvPr id="222" name=""/>
            <p:cNvSpPr/>
            <p:nvPr/>
          </p:nvSpPr>
          <p:spPr>
            <a:xfrm>
              <a:off x="609480" y="1905120"/>
              <a:ext cx="358128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514600"/>
              <a:ext cx="220968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 Vend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71600" y="4572000"/>
              <a:ext cx="220968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 Vendor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4400" y="3733920"/>
              <a:ext cx="533160" cy="4572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9000" y="2057400"/>
              <a:ext cx="533160" cy="4572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29000" y="5638680"/>
              <a:ext cx="533160" cy="4572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5800" y="1295280"/>
              <a:ext cx="533160" cy="4572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29000" y="3809880"/>
              <a:ext cx="533160" cy="4572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6560" y="1905120"/>
              <a:ext cx="358164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38680" y="2514600"/>
              <a:ext cx="220968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 Vendor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38680" y="4572000"/>
              <a:ext cx="220968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 Vendor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81480" y="3733920"/>
              <a:ext cx="533520" cy="4572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29200" y="2057400"/>
              <a:ext cx="533160" cy="4572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5160" y="5638680"/>
              <a:ext cx="533520" cy="4572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48360" y="1295280"/>
              <a:ext cx="533520" cy="4572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96080" y="3809880"/>
              <a:ext cx="533520" cy="4572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66680" y="1752480"/>
              <a:ext cx="609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218960" y="335232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123720" y="23623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200040" y="34290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26708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3276360" y="54860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38280" y="35812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1280" y="30481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314840" y="1752480"/>
              <a:ext cx="6094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638680" y="3428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62360" y="4191120"/>
              <a:ext cx="3812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638680" y="5486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543800" y="426708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62360" y="25146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5680" y="2895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0968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143000" y="205704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8960" y="33526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0400" y="23623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76360" y="4419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276360" y="358128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276360" y="54860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2360" y="4343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38680" y="54100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15000" y="39625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67480" y="2133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638320" y="2438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1760" y="1752480"/>
              <a:ext cx="30492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62160" y="5867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11040" y="56689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15000" y="35053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72680" y="35053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92040" y="41911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5040" y="35053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30080" y="434340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91880" y="55627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48640" y="205740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4280" y="21337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87360" y="35812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39760" y="22096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82640" y="19810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9760" y="4419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73480" y="444960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39360" y="388620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39440" y="25909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893960" y="2057400"/>
            <a:ext cx="500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ptical network has two types of interfa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NI – Network to Network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 – User Network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438280" y="4267080"/>
            <a:ext cx="10670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0960" y="42670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029200" y="4038480"/>
            <a:ext cx="83808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22080" y="3962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9440" y="52578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31160" y="5715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276360" y="480060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4648320"/>
            <a:ext cx="685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3962520"/>
            <a:ext cx="152388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7440" y="380880"/>
            <a:ext cx="30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teve Jo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-2880" y="228600"/>
            <a:ext cx="87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tical Network is recursive in its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676160" y="2743200"/>
            <a:ext cx="53316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50080" y="25909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048120" y="1523880"/>
            <a:ext cx="304560" cy="10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31160" y="137160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3280" y="28954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40440" y="365760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2971800"/>
            <a:ext cx="83808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8120" y="2819520"/>
            <a:ext cx="182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2438280"/>
            <a:ext cx="83844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1752480"/>
            <a:ext cx="579096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4343400"/>
            <a:ext cx="838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4343400"/>
            <a:ext cx="83844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590920"/>
            <a:ext cx="838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809880" y="3124080"/>
            <a:ext cx="137160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3124080"/>
            <a:ext cx="121932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228600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4876920"/>
            <a:ext cx="7632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48769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4495680"/>
            <a:ext cx="1295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715000" y="236232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31160" y="60199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26840" y="251460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45760" y="33526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79080" y="47242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4160" y="38098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83840" y="60199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50880" y="41911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19810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2819520"/>
            <a:ext cx="76176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1800" y="297180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1480" y="1143000"/>
            <a:ext cx="30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teve Jo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cal Internetwork 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076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al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, national, continental,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dministrative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crosses local access, regional, long-haul, regional, local acces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neration uses line-derived c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58000" y="1322280"/>
            <a:ext cx="62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be aware of these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egin with a focus on U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9:07:35Z</dcterms:created>
  <dc:creator>Renee Joseph</dc:creator>
  <dc:description/>
  <dc:language>en-US</dc:language>
  <cp:lastModifiedBy>Joseph Berthold</cp:lastModifiedBy>
  <cp:lastPrinted>1999-12-03T12:42:34Z</cp:lastPrinted>
  <dcterms:modified xsi:type="dcterms:W3CDTF">2000-01-17T00:04:36Z</dcterms:modified>
  <cp:revision>69</cp:revision>
  <dc:subject/>
  <dc:title>No Slide Title</dc:title>
</cp:coreProperties>
</file>