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5166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8A908-68B1-4151-8D87-31A38C7DD9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21943-90C9-4BDD-B552-7F68DD35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70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57177-03DC-4CCA-A61B-C9D2641A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4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00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4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00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D9333-9D39-441D-8CF5-5C6A54D534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6F0A0-5B05-4C90-8334-4CF1AC34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592EB-4424-4AD5-A19D-0602D84B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1D0F1-9188-4309-B828-5809EB9D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C653B-E7D7-48EB-A64A-103D124F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1519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0C027-7010-4CFD-B8B0-250F0F65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FC5A4-790D-47DF-AEBB-B77DF24E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70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FF7DA-7C54-48F8-8323-39B62969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FCBC1-2F08-433F-B842-CCB201A8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276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E24E-A83A-4984-8096-88B0D3E0D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1odsi" descr=""/>
          <p:cNvPicPr/>
          <p:nvPr/>
        </p:nvPicPr>
        <p:blipFill>
          <a:blip r:embed="rId2"/>
          <a:stretch/>
        </p:blipFill>
        <p:spPr>
          <a:xfrm>
            <a:off x="7620120" y="5791320"/>
            <a:ext cx="1371600" cy="8841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09480" y="1295280"/>
            <a:ext cx="7315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534520" y="5486400"/>
            <a:ext cx="5331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30040" y="0"/>
          <a:ext cx="8583840" cy="1094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0"/>
                    <a:ext cx="8583840" cy="109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ODSI Bandwidth 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r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destructive mod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possible endpoints (Directory Looku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Unsupported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mmetric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-to-multi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P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of-da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765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phisticated N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tic and tes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pecific protection modes (e.g., ring or linear A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ODSI Protocol Su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1160" y="1558800"/>
          <a:ext cx="7761240" cy="42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1160" y="1558800"/>
                    <a:ext cx="7761240" cy="42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ODSI Based on IP protoc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14400" y="1558800"/>
          <a:ext cx="7772400" cy="40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58800"/>
                    <a:ext cx="777240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ODSI Document Edi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. Arvind (Tenor Networ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. Bernstein (Cie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. Coltun (Siara Syste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 Moy (Sycamore Networ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Sodder (Tenor Networ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 Weiss (Cie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9120" y="5562720"/>
            <a:ext cx="53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ork progress documented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ww.odsi-coalition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NET details (Appendix 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 numbering from GR-2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-band control through configured set of SONET overhead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ed in bit-oriented HDLC framing, PPP data-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4-D12 used by 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point detects failures though 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cts with standard SONET protection in local connection to optical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840" y="147600"/>
            <a:ext cx="84582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3040" y="5253120"/>
            <a:ext cx="281952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1odsi" descr=""/>
          <p:cNvPicPr/>
          <p:nvPr/>
        </p:nvPicPr>
        <p:blipFill>
          <a:blip r:embed="rId1"/>
          <a:stretch/>
        </p:blipFill>
        <p:spPr>
          <a:xfrm>
            <a:off x="3195720" y="660240"/>
            <a:ext cx="2879640" cy="185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916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ODSI Functional Specification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il 2000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6324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: ODSI Functional Specification, Revision 1.3, April 20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68480" y="46990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my Copley, Sycamore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ODSI Back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formal coalition formed in early January 2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ingle work group format, finite and focused endeav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00 companies currently participa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alition goal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technical recommendation for dynamic   provisioning of bandwidth from the optical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e interoperabl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-off proposals to official standards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65240" y="4105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133720"/>
            <a:ext cx="8381880" cy="1676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ODSI Pro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First meeting January 18th, 2000 (Boston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of baseline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524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Times New Roman"/>
              </a:rPr>
              <a:t>Second meeting, April 6th, 2000 (Chicago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mework functional specification review, post-meeting revisions submitted to OIF (currently Rev 1.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and discussion of protocol suite (service discovery and address registration, MIBs, signa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ird meeting, July 25, 2000 (San Francisco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rther review and finalization of protocol 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of interoperability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ulti-vendor interoperability scheduled for Q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Results to be submitted to official standards bodies                        by end of ye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Interoperability Focus of ODS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electrical devices (IP routers, ATM switches, etc.) to make bandwidth requests directly to the optical net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 SV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y ODS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imultaneous industry trends make dynamic requests for optical bandwidth the logical next st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cal  switches implemen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int-and-click provisioning of band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in sec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affic engineering and constraint-based rou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electrical devices enabling them to detect when and where new bandwidth is requir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ODSI Service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-demand creation of bandwidth between two endpoint electrical dev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description has three par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point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ODSI Endpoint Iden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14400" y="1558800"/>
          <a:ext cx="7772400" cy="40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58800"/>
                    <a:ext cx="777240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ODSI Bandwidth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en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(STS-1, OC-48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agation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65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22:11:15Z</dcterms:created>
  <dc:creator>mfaneuf</dc:creator>
  <dc:description/>
  <dc:language>en-US</dc:language>
  <cp:lastModifiedBy>Preferred Customer</cp:lastModifiedBy>
  <cp:lastPrinted>2000-04-04T18:51:31Z</cp:lastPrinted>
  <dcterms:modified xsi:type="dcterms:W3CDTF">2000-04-24T13:23:14Z</dcterms:modified>
  <cp:revision>163</cp:revision>
  <dc:subject/>
  <dc:title>No Slide Title</dc:title>
</cp:coreProperties>
</file>